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EE329-9BBC-41DF-8672-7E3216118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3C564-A965-4B7D-8665-B18983D46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90F9D-97B4-4BE4-83CD-358F11863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4D87A-330C-4EB0-8BD2-A8D564635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38D0D-FE96-4E06-80D1-53178C226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49ED7-2AA0-4246-B9C2-B875B2668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76C2C-AC3A-4C6C-B53B-48088016A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A55D4-DA82-415F-94DA-FC9740352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50E50-25FD-4C84-9069-314D66B4D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03DA2-83E2-4788-829F-E627A6B3F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F1076-9EBE-42F9-A1F6-872D01B13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93E04-DE88-4112-AF69-547337434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游ゴシック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47BDC-BBBA-4E1D-B33A-92C4EC219E9B}" type="slidenum"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游ゴシック Light"/>
              </a:rPr>
              <a:t>test</a:t>
            </a:r>
            <a:endParaRPr b="0" lang="en-US" sz="60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游ゴシック"/>
              </a:rPr>
              <a:t>Test test</a:t>
            </a:r>
            <a:endParaRPr b="0" lang="en-US" sz="24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24T11:10:28Z</dcterms:created>
  <dc:creator/>
  <dc:description/>
  <dc:language>en-US</dc:language>
  <cp:lastModifiedBy/>
  <dcterms:modified xsi:type="dcterms:W3CDTF">2021-10-24T11:10:41Z</dcterms:modified>
  <cp:revision>1</cp:revision>
  <dc:subject/>
  <dc:title/>
</cp:coreProperties>
</file>