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FB49-0599-4816-A775-347040716152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6A3B-79DD-4A9F-A3F5-958DED926A00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opalliance.sourceforge.net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ダイコン白書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リジナル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抽象クラス・インターフェイスの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的な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・抽象クラ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普通にはインスタンス化でき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内部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バイトコードエンジニアリングによって拡張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nhance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クラス生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4508640"/>
            <a:ext cx="76042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org.seasar.Speake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sample.org.seasar.HelloInterceptor“/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2997360"/>
            <a:ext cx="76057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Interceptor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ethodIntercept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MethodInvocation invocation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3789360"/>
            <a:ext cx="51642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MethodInvocation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呼ばなけれ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利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をコンテナ機能として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をシンプルに行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を記述するの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りかく易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しなければなら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が１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にどんな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e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適用されるのかが明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や抽象クラスを実装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オブジェクトパターンを利用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1270080"/>
            <a:ext cx="561636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グラミングを行う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質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プリケーション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ス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でない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横断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アプリケーション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クラス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な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開発要件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分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280" y="206064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3789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0360" y="1413000"/>
            <a:ext cx="3024360" cy="1439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要件として都度開発。ビジネスロジックとして、おそらく他に流用が聞かない部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3213000"/>
            <a:ext cx="3024360" cy="2089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あらかじめフレームワーク的に用意されている機能か、繰り返し用いられてるロジックを抽出すると見えてくる。多分にシステムロジック的な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609300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5734080"/>
            <a:ext cx="3024360" cy="7038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OP (Aspec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Oriented Programinng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を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を分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ス・バイナリとしても分か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複数の「関心」から成る場合も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再利用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「横断的」であることから、再利用性そのもの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件からシステム的機能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排出し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、シンプルな技術で実現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5589720"/>
            <a:ext cx="4537080" cy="6422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lain Old=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平凡な」を意味するイディオ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キーとなる用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ointcut &amp; MethodInter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thodInvocati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再利用可能な実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ユーザー実装もしくは、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プラグイン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rg.aopalliance.intercept.MethodIntercepto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インターフェイスを実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v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の接続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thodInterceptor#invoke(MethodInvocation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ソッドの引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 Al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opalliance.sourceforge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標準化のためのプロジェク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g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バイトコードエンジニアリングのためのライブラ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義の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として定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定義者が明示的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ボディでコンポーネント名もしくは子要素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タグ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指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カンマ区切りで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対象になるコンポーネントのメソッド名を列挙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トークンごとに、正規表現を使用可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を指定しない場合は、コンポーネントが実装しているインターフェースのすべてのメソッドが対象にな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つ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複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出現順序が動作に影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1557360"/>
            <a:ext cx="8424720" cy="47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sync" class="tutorial.org.seasar.console.AsyncCallAdvice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"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[a-z]{3}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sample/org/seasar/shellscript/sample.dicon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un, init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4920" y="564660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をカンマ区切りで複数トークン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4920" y="614988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コンポーネント名で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4920" y="4249800"/>
            <a:ext cx="532944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子要素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&g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タグ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MethodInterceptor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定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3716280"/>
            <a:ext cx="5329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に正規表現を利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8920" y="980640"/>
            <a:ext cx="758016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、実行時期で二分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vocation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呼ぶ前と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呼ぶ前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読んだ後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2565360"/>
            <a:ext cx="7369200" cy="381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BS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mplement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MethodIntercepto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Object invoke(MethodInvocation invocation)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hrow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Throw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Object ret = invocation.procee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r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74880" y="3645000"/>
            <a:ext cx="5834160" cy="433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74880" y="4654440"/>
            <a:ext cx="5832720" cy="4320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3860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4869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880" y="36450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0560" y="465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スタ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登録順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が実行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最後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を実行した後にコンポーネント自身のメソッドが呼び出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登録の逆順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が実行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トランザクション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Extensio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パッケ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透明な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のみでユーザーコードに何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コーディングを行わなくてよ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98800" y="4005360"/>
            <a:ext cx="6505560" cy="22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j2ee.dicon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TxCa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2ee.requiredTx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5734080"/>
            <a:ext cx="49388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spec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terceptor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記述するだ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4-06-06T11:58:54Z</dcterms:modified>
  <cp:revision>52</cp:revision>
  <dc:subject/>
  <dc:title>スライド 1</dc:title>
</cp:coreProperties>
</file>