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87C89C2-8C2A-4620-9939-9284635C8DF0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が楽しい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マを楽しくさせる何かがそこに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096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レゼンテ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209680"/>
            <a:ext cx="3505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819520"/>
            <a:ext cx="198144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956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pe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528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57200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662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7698600">
            <a:off x="1409760" y="388584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3901400">
            <a:off x="2933280" y="3847680"/>
            <a:ext cx="838080" cy="457560"/>
          </a:xfrm>
          <a:prstGeom prst="leftArrow">
            <a:avLst>
              <a:gd name="adj1" fmla="val 50000"/>
              <a:gd name="adj2" fmla="val 457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19520"/>
            <a:ext cx="19810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71024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ＥＪ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698600">
            <a:off x="5219280" y="4000320"/>
            <a:ext cx="838440" cy="457200"/>
          </a:xfrm>
          <a:prstGeom prst="leftArrow">
            <a:avLst>
              <a:gd name="adj1" fmla="val 50000"/>
              <a:gd name="adj2" fmla="val 4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629400" y="3758400"/>
            <a:ext cx="1981080" cy="1880280"/>
            <a:chOff x="6629400" y="3758400"/>
            <a:chExt cx="1981080" cy="1880280"/>
          </a:xfrm>
        </p:grpSpPr>
        <p:grpSp>
          <p:nvGrpSpPr>
            <p:cNvPr id="137" name=""/>
            <p:cNvGrpSpPr/>
            <p:nvPr/>
          </p:nvGrpSpPr>
          <p:grpSpPr>
            <a:xfrm>
              <a:off x="6629400" y="4710240"/>
              <a:ext cx="1981080" cy="928440"/>
              <a:chOff x="6629400" y="4710240"/>
              <a:chExt cx="1981080" cy="928440"/>
            </a:xfrm>
          </p:grpSpPr>
          <p:sp>
            <p:nvSpPr>
              <p:cNvPr id="138" name=""/>
              <p:cNvSpPr/>
              <p:nvPr/>
            </p:nvSpPr>
            <p:spPr>
              <a:xfrm>
                <a:off x="6629400" y="4710240"/>
                <a:ext cx="1600200" cy="92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490680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Seas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rot="13901400">
              <a:off x="6743520" y="4000320"/>
              <a:ext cx="838440" cy="456840"/>
            </a:xfrm>
            <a:prstGeom prst="leftArrow">
              <a:avLst>
                <a:gd name="adj1" fmla="val 50000"/>
                <a:gd name="adj2" fmla="val 4588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19320" y="57150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比較的多い選択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e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05T15:34:18Z</dcterms:modified>
  <cp:revision>19</cp:revision>
  <dc:subject/>
  <dc:title>PowerPoint Presentation</dc:title>
</cp:coreProperties>
</file>