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3E59B87-81C1-49B6-850B-9E26658B3D2C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れからの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期待したいも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うえやん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Nazuna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ちゃん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どこに消えた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歴史が今日、ここからはじま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スターロジックのメンバーが中心ですが、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春の嵐スペシャ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小林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こがセクシー！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だと感じ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コー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ug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導入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阻んだひとこ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匿名さん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pr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い始め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私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と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あの子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pring etc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魅力徹底比較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4-11T10:38:46Z</dcterms:modified>
  <cp:revision>36</cp:revision>
  <dc:subject/>
  <dc:title>スライド 1</dc:title>
</cp:coreProperties>
</file>