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8A4D6-49FE-4AF7-8EEE-F7D53CF70C2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1EBD3-893D-409D-AB5C-DE564FB8270E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IoC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への招待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基本機能のすべて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4436640"/>
            <a:ext cx="388152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東京初台 シモモトビ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株式会社グルージェン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栗原 傑享（まさた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ttp://www.gluegen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03640" y="5661000"/>
            <a:ext cx="14004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124000" y="1125360"/>
            <a:ext cx="6624720" cy="32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Engine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Car(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ngineSize,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urbo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engineSize = engineSiz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turbo = turb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Engine is " + engineSize 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"cc, " + "turbo:" + turbo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124000" y="4510080"/>
            <a:ext cx="6624720" cy="194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Engin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3000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rue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8" name=""/>
          <p:cNvCxnSpPr/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250920" y="3500280"/>
            <a:ext cx="1728720" cy="8240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値がコンストラクタ引数に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435640" y="6149880"/>
            <a:ext cx="288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論理値も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435640" y="5645160"/>
            <a:ext cx="2879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数値はそのまま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1640" y="1052640"/>
            <a:ext cx="6005520" cy="2232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Stereo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List lis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rayList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dd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list.add(bgm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763640" y="3573360"/>
            <a:ext cx="7056360" cy="288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Stereo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BGM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pitz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34" idx="1"/>
            <a:endCxn id="133" idx="1"/>
          </p:cNvCxnSpPr>
          <p:nvPr/>
        </p:nvCxnSpPr>
        <p:spPr>
          <a:xfrm flipH="1" rot="10800000">
            <a:off x="1763280" y="2168640"/>
            <a:ext cx="1008720" cy="2846520"/>
          </a:xfrm>
          <a:prstGeom prst="bentConnector3">
            <a:avLst>
              <a:gd name="adj1" fmla="val -78721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6" name=""/>
          <p:cNvSpPr/>
          <p:nvPr/>
        </p:nvSpPr>
        <p:spPr>
          <a:xfrm>
            <a:off x="324000" y="191628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859280" y="5877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の自動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書かずとも、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判断して自動初期化をできるかぎり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をコンテナが走査して、プロパティを自動設定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プロパティの型がインターフェイスで、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ストラクタの引数型をしらべ、引数を自動設定す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引数型がすべてインターフェイス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一番引数の多いコンストラクタであ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それぞれの引数型のインターフェイスの実装コンポーネントが同一コンテナ上に登録されているこ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GM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3" name=""/>
          <p:cNvCxnSpPr>
            <a:stCxn id="142" idx="1"/>
            <a:endCxn id="141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4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プロパティ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自動初期化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411280" y="1125360"/>
            <a:ext cx="6438960" cy="266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ackage tutorial.org.seasar.consol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AutoChanger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GM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utoChangerCar(BGM bgm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bgm = bgm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BGM is " + bgm.getDisplay()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826920" y="3933720"/>
            <a:ext cx="7993080" cy="239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spitz" class="tutorial.org.seasar.console.CD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Spitz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arg&gt;'Iroirokoromo'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AutoChanger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47" idx="1"/>
            <a:endCxn id="146" idx="1"/>
          </p:cNvCxnSpPr>
          <p:nvPr/>
        </p:nvCxnSpPr>
        <p:spPr>
          <a:xfrm flipH="1" rot="10800000">
            <a:off x="825840" y="2456640"/>
            <a:ext cx="1585080" cy="2674080"/>
          </a:xfrm>
          <a:prstGeom prst="bentConnector3">
            <a:avLst>
              <a:gd name="adj1" fmla="val -14425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49" name=""/>
          <p:cNvSpPr/>
          <p:nvPr/>
        </p:nvSpPr>
        <p:spPr>
          <a:xfrm>
            <a:off x="250920" y="2133720"/>
            <a:ext cx="1728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はコンストラクタ引数設定の記述がないが、自動設定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ライフサイクル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ype2 / Type3 / Type4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駆使して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終了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#destroy()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って、全登録コンポーネントの終了化メソッドの呼び出しを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モードの場合のみ、終了化メソッドが有効になる。→ 後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405080" y="1916280"/>
            <a:ext cx="7343640" cy="216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GoBackCar implements Car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// run()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omeBack(Date back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impleDateFormat fmt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impleDateForma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HH:mm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 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“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I have come back at 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+ fmt.format(back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413080" y="4275000"/>
            <a:ext cx="6335640" cy="2249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omeBack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java.util.Date(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184720" y="579132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new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オブジェクト生成でき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6" name=""/>
          <p:cNvCxnSpPr>
            <a:stCxn id="154" idx="1"/>
            <a:endCxn id="153" idx="1"/>
          </p:cNvCxnSpPr>
          <p:nvPr/>
        </p:nvCxnSpPr>
        <p:spPr>
          <a:xfrm rot="10800000">
            <a:off x="1404360" y="2996640"/>
            <a:ext cx="1008720" cy="2404080"/>
          </a:xfrm>
          <a:prstGeom prst="bentConnector3">
            <a:avLst>
              <a:gd name="adj1" fmla="val 12267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7" name=""/>
          <p:cNvSpPr/>
          <p:nvPr/>
        </p:nvSpPr>
        <p:spPr>
          <a:xfrm>
            <a:off x="250920" y="443700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itMetho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同様に、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1" lang="ja-JP" sz="1600" spc="-1" strike="noStrike">
                <a:solidFill>
                  <a:srgbClr val="000000"/>
                </a:solidFill>
                <a:latin typeface="Arial"/>
              </a:rPr>
              <a:t>に記述されたメソッドが記述引数値で実行され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49760" y="1125360"/>
            <a:ext cx="3198960" cy="5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destroy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9640" y="1341360"/>
            <a:ext cx="525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アプリケーション終了時に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2Container#destroy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4360" y="1412640"/>
            <a:ext cx="8229600" cy="41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中のエレメントボディ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記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nam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rg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を記述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ystem.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 → 自コンポーネ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他、コンポーネント名が使用でき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メソッド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68360" y="2276640"/>
            <a:ext cx="8353440" cy="2447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GoHome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'Enjoy shopping!'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destroyMethod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is.comeBack(new java.util.Date())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destroyMetho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547640" y="5661000"/>
            <a:ext cx="7201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トネント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.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メソッド名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(&lt;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引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gt;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メソッド実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 flipV="1">
            <a:off x="3131640" y="3933720"/>
            <a:ext cx="792360" cy="9352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 flipH="1">
            <a:off x="3059280" y="1844640"/>
            <a:ext cx="2233440" cy="936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643280" y="1484280"/>
            <a:ext cx="30956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stem.o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564000" y="4869000"/>
            <a:ext cx="3708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i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」で自コンポーネントを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インスタンスモー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1052280"/>
            <a:ext cx="8229600" cy="33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生成を誰が行う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および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ty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クライアントで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u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保持は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ngleton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の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終了化メソッ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826920" y="4437000"/>
          <a:ext cx="7848720" cy="2073240"/>
        </p:xfrm>
        <a:graphic>
          <a:graphicData uri="http://schemas.openxmlformats.org/drawingml/2006/table">
            <a:tbl>
              <a:tblPr/>
              <a:tblGrid>
                <a:gridCol w="2089440"/>
                <a:gridCol w="2879640"/>
                <a:gridCol w="2879640"/>
              </a:tblGrid>
              <a:tr h="3373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stance</a:t>
                      </a: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モード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生成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コンポーネント保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glet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終了化メソッド有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totyp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2Contain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uter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ddddee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で生成のた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ss</a:t>
                      </a: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属性が任意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クライアント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dfdf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テ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68360" y="1196640"/>
            <a:ext cx="8445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asar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oC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テナの一種。軽量コンテナ（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Lightweight 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）とも言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この分野を適切に指し示す用語がまだ定まってい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最新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開発メソッドである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Io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Inversion of Control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略。制御の逆転を意味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制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生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設定（初期化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逆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テナがオブジェクト生成に責任を持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オブジェクトのプロパティ等の設定をコンテナが行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クライアントはインターフェイスで受けて実装す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を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ストラクタを実行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3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初期は行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機能が使え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外部でコンポーネント保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はコンポーネントを保持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終了化メソッドが動作し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のみ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プロパティ設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ype4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よるメソッド呼び出し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テナに登録されているコンポーネントを利用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自動設定が動作。これが最も有用なポイント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ject Dependency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301760" y="1341360"/>
            <a:ext cx="7446960" cy="25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Factory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UnderConstructionCar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ontainer.injectDependency(car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301760" y="4492800"/>
            <a:ext cx="7416720" cy="188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instanc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outer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class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tutorial.org.seasar.console.UnderConstructionCar"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</a:t>
            </a:r>
            <a:r>
              <a:rPr b="1" lang="ja-JP" sz="1800" spc="-1" strike="noStrike">
                <a:solidFill>
                  <a:srgbClr val="009900"/>
                </a:solidFill>
                <a:latin typeface="Century"/>
                <a:ea typeface="ＭＳ 明朝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Century"/>
                <a:ea typeface="ＭＳ 明朝"/>
              </a:rPr>
              <a:t>"engine"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'SOHC-V12 Twin turbo'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Century"/>
                <a:ea typeface="ＭＳ 明朝"/>
              </a:rPr>
              <a:t>    </a:t>
            </a:r>
            <a:r>
              <a:rPr b="1" lang="ja-JP" sz="1800" spc="-1" strike="noStrike">
                <a:solidFill>
                  <a:srgbClr val="660066"/>
                </a:solidFill>
                <a:latin typeface="Century"/>
                <a:ea typeface="ＭＳ 明朝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Century"/>
                <a:ea typeface="ＭＳ 明朝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780000" y="3141720"/>
            <a:ext cx="3960720" cy="10674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型のほか、名前でも設定を検索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clas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jectDependency(Object, String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659640" y="247824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イアントで生成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300720" y="4724280"/>
            <a:ext cx="1800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は任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生成を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で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init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destroyMethod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同様だが、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o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や「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hi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」は使えない。→ ここでは生成処理のみを行う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生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ストラクター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ファクトリメソッド（オブジェクト）による生成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コンポーネント生成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258920" y="2546280"/>
            <a:ext cx="7200720" cy="21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ed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ew tutorial.org.seasar.console.PaintedCar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971640" y="1341360"/>
            <a:ext cx="33112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は型で取得できないために、必ず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am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の設定が必要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507060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２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yp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４による初期化が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24360" y="5718240"/>
            <a:ext cx="439272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ingleton 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れば終了化メソッドも可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ooManyRegist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インターフェイスを実装の複数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同じ名前で登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コンポーネント取得時に例外発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解決には名前空間を利用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95280" y="306864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  <a:ea typeface="ＭＳ ゴシック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"tutorial.org.seasar.console.Hello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  <a:ea typeface="ＭＳ ゴシック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Tahoma"/>
              </a:rPr>
              <a:t>class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"tutorial.org.seasar.console.GoodbyCar"</a:t>
            </a:r>
            <a:r>
              <a:rPr b="1" lang="ja-JP" sz="1600" spc="-1" strike="noStrike">
                <a:solidFill>
                  <a:srgbClr val="7f007f"/>
                </a:solidFill>
                <a:latin typeface="Tahoma"/>
              </a:rPr>
              <a:t>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395280" y="4869000"/>
            <a:ext cx="8210520" cy="1512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  <a:ea typeface="ＭＳ ゴシック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lass="tutorial.org.seasar.console.HelloCa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600" spc="-1" strike="noStrike">
                <a:solidFill>
                  <a:srgbClr val="009900"/>
                </a:solidFill>
                <a:latin typeface="Tahoma"/>
              </a:rPr>
              <a:t>name=</a:t>
            </a:r>
            <a:r>
              <a:rPr b="1" lang="ja-JP" sz="1600" spc="-1" strike="noStrike">
                <a:solidFill>
                  <a:srgbClr val="0000ff"/>
                </a:solidFill>
                <a:latin typeface="Tahoma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class="tutorial.org.seasar.console.Another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7524720" y="350028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どちらも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524720" y="5229360"/>
            <a:ext cx="1440000" cy="5202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同じ名前で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2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つ登録していて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名前空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アプリケーションが大きくなったと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肥大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の名前が衝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ooManyRegistrationRuntimeExcep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の分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include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による設定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s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namespa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ごとにコンポーネント名前空間を設定可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名前空間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:[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名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]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と、コロンで接続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空間を利用した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124000" y="1555920"/>
            <a:ext cx="6624720" cy="72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1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ca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2 = (Car)container.getComponent(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other:paintedCar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2563920"/>
            <a:ext cx="8424720" cy="1944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/org/seasar/console/other.xml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red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324000" y="4795920"/>
            <a:ext cx="842472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spac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othe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“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property name="bodyColor"&gt;'yellow'&lt;/propert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572000" y="4869000"/>
            <a:ext cx="2233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の名前空間を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003640" y="2421000"/>
            <a:ext cx="381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Includ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他の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設定をマージ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395280" y="1052640"/>
            <a:ext cx="403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名前空間を指定してコンポーネント取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何かご質問はございます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類似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「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Expert One-onOne J2EE Design and Developme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」（邦題：実践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ステムデザイン）著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Rod Jhonson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JBoss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Bos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次期バージョン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4.0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ベースとなってい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HiveMi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Tapestry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作者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oward Lewis Shi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よ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akarta Commons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サブプロジェク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PicoCont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中心であるコンテナ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ブートストラップを別途必要と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既存フレームワーク等に組み込みで使うことを想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登録・設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ード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oovy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による登録・設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イアントへのコンポーネント提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現在は同一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上の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/S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形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別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M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でのサービスは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2Remoting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を通して行う予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3640" y="1197000"/>
            <a:ext cx="858996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lane Old Java Objec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「平凡な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オブジェクト」の意味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や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ache Avalon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ように、コンテナに載せるために特別なインターフェイスを実装する必要なし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クライアントがコンポーネント取得する際に、コンポーネントが実装するインターフェイスをキーとしてコンテナ上を検索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公開するメソッドは、インターフェイスで定義する。クライアントはインターフェイスを介してメソッド呼び出しを行う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コンストラク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デフォルトコンストラクタがなくても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コンストラクタがなくても、インスタンス生成さえできれば良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プロパティ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JavaBeans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仕様のプロパティでステート管理を行うと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の便利な機能が利用でき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しかし、強制ではない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24000" y="5873760"/>
            <a:ext cx="8642160" cy="3988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何らかの手段でインスタンス生成できれば、どんな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ava</a:t>
            </a:r>
            <a:r>
              <a:rPr b="1" lang="zh-CN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でも良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取得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692360" y="1484280"/>
            <a:ext cx="727236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Car.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692360" y="5373720"/>
            <a:ext cx="4895640" cy="12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Car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Car</a:t>
            </a: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first car!"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692360" y="3932280"/>
            <a:ext cx="7272360" cy="108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HelloCa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4365360" y="4724280"/>
            <a:ext cx="406440" cy="649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6300720" y="2924280"/>
            <a:ext cx="822240" cy="1368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11280" y="1197000"/>
            <a:ext cx="6985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インターフェイス</a:t>
            </a: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参照のみで、コンポーネントの実際の型に縛られていない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148360" y="3357720"/>
            <a:ext cx="331308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するコンポーネントを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580536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あ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7" name=""/>
          <p:cNvCxnSpPr>
            <a:stCxn id="99" idx="1"/>
            <a:endCxn id="101" idx="1"/>
          </p:cNvCxnSpPr>
          <p:nvPr/>
        </p:nvCxnSpPr>
        <p:spPr>
          <a:xfrm flipH="1" flipV="1" rot="10800000">
            <a:off x="1692000" y="2528640"/>
            <a:ext cx="2160" cy="1945440"/>
          </a:xfrm>
          <a:prstGeom prst="bentConnector3">
            <a:avLst>
              <a:gd name="adj1" fmla="val -144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8" name=""/>
          <p:cNvSpPr/>
          <p:nvPr/>
        </p:nvSpPr>
        <p:spPr>
          <a:xfrm>
            <a:off x="250920" y="3645000"/>
            <a:ext cx="129672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設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443640" y="5533920"/>
            <a:ext cx="1441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ar</a:t>
            </a: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装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名前による検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79640" y="1916280"/>
            <a:ext cx="6769080" cy="208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Highway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rivate static String PATH = "tutorial/org/seasar/console/car.xml"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static void main(String[] args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2Container container = S2ContainerFactory.create(PATH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 car = (Car)container.getComponent(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ar.run(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908000" y="4795920"/>
            <a:ext cx="676944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name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class="tutorial.org.seasar.console.HelloCar"/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076720" y="3355920"/>
            <a:ext cx="2046240" cy="20163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4221000"/>
            <a:ext cx="2449440" cy="307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名で検索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900000" y="1125360"/>
            <a:ext cx="72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クラスキャストの際の例外の危険があるために、基本的にはインターフェイス型で取得するほうが推奨される。しかし、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既存の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オブジェクトがインターフェイスを実装していない場合に、特に有効であ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初期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コンポーネントの初期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設定に従い、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が行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プロパティ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ストラクタ引数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コンポーネントメソッドによる初期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オリジナ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ype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24000" y="1268280"/>
            <a:ext cx="6797880" cy="309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class PaintedCar implements Car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tring color = </a:t>
            </a:r>
            <a:r>
              <a:rPr b="1" lang="ja-JP" sz="1800" spc="-1" strike="noStrike">
                <a:solidFill>
                  <a:srgbClr val="2a00ff"/>
                </a:solidFill>
                <a:latin typeface="ＭＳ ゴシック"/>
                <a:ea typeface="ＭＳ ゴシック"/>
              </a:rPr>
              <a:t>"blue"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etBodyColor(String color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color = color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4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public void run() {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System.out.println("My body color is " + color)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24000" y="4581360"/>
            <a:ext cx="6769080" cy="165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property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8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8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bodyColor"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red'</a:t>
            </a:r>
            <a:r>
              <a:rPr b="1" lang="ja-JP" sz="18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proper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20" idx="1"/>
            <a:endCxn id="119" idx="1"/>
          </p:cNvCxnSpPr>
          <p:nvPr/>
        </p:nvCxnSpPr>
        <p:spPr>
          <a:xfrm flipH="1" rot="10800000">
            <a:off x="2122920" y="2817000"/>
            <a:ext cx="2520" cy="2592720"/>
          </a:xfrm>
          <a:prstGeom prst="bentConnector3">
            <a:avLst>
              <a:gd name="adj1" fmla="val -49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2" name=""/>
          <p:cNvSpPr/>
          <p:nvPr/>
        </p:nvSpPr>
        <p:spPr>
          <a:xfrm>
            <a:off x="250920" y="3500280"/>
            <a:ext cx="172872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記述されたプロパティ値が設定され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763640" y="1052640"/>
            <a:ext cx="5472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コンポーネント生成時に、プロパティが設定され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859280" y="5950080"/>
            <a:ext cx="381636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el: 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文字列はシングルクォートで囲う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09T07:09:30Z</dcterms:modified>
  <cp:revision>87</cp:revision>
  <dc:subject/>
  <dc:title>スライド 1</dc:title>
</cp:coreProperties>
</file>