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46680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249240" y="119664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68436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46680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249240" y="3942360"/>
            <a:ext cx="264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059280" y="301680"/>
            <a:ext cx="5760720" cy="24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01400" y="394236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01400" y="1196640"/>
            <a:ext cx="40158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4360" y="3942360"/>
            <a:ext cx="822960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71280" y="-1440"/>
            <a:ext cx="2916360" cy="134280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1619280" y="907920"/>
            <a:ext cx="7524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77DB00-5042-408A-BFE5-34D3386D7AD3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395280" y="1268280"/>
            <a:ext cx="3600360" cy="16574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2340000" y="2349360"/>
            <a:ext cx="68040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43280" y="6597720"/>
            <a:ext cx="411984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900" spc="-1" strike="noStrike">
                <a:solidFill>
                  <a:srgbClr val="000000"/>
                </a:solidFill>
                <a:latin typeface="Tahoma"/>
              </a:rPr>
              <a:t>© Copyright The Seasar Project and others 2004. all rights reserv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43280" y="6597720"/>
            <a:ext cx="45007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187280" y="246348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748720" y="6454800"/>
            <a:ext cx="287280" cy="287280"/>
          </a:xfrm>
          <a:prstGeom prst="ellipse">
            <a:avLst/>
          </a:prstGeom>
          <a:solidFill>
            <a:srgbClr val="ff99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C4B1A4-7359-4F01-A8AF-85EC6A8527AA}" type="slidenum">
              <a:rPr b="1" lang="en-US" sz="9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2463840"/>
            <a:ext cx="7772400" cy="154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の正体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Seasar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の内部では何が起こっているのか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859280" y="4436640"/>
            <a:ext cx="3881520" cy="20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からさわぎ”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200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東京初台 シモモトビル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株式会社グルージェント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栗原 傑享（まさたか）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Arial"/>
              </a:rPr>
              <a:t>http://www.gluegent.com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5003640" y="5661000"/>
            <a:ext cx="1400400" cy="39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スタッ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定義に追加された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リストに保存さ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の子要素中で出現順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リストに追加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の先頭から順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調べられ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名と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指示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正規表現パターンのマッチを取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がマッチした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Befor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部を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をコー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リストが尽きるとコンポーネントメソッドを実行す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メソッドから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で今度は実行した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部を逆順に実行してい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シーケン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556000" y="981000"/>
            <a:ext cx="6135480" cy="559296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07640" y="1341360"/>
            <a:ext cx="252108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etComponent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後に、コンポーネントのメソッド利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作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呼び出しをインターセプトす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roxy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生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最初の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取得する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を自分を引数に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#invoke(Joinpoint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で呼ばれ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の前後で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スタックされた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あれば取得して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が無くなればコンポーネントメソッドを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Component </a:t>
            </a:r>
            <a:r>
              <a:rPr b="0" lang="ja-JP" sz="1400" spc="-1" strike="noStrike">
                <a:solidFill>
                  <a:srgbClr val="ff0000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Arial"/>
              </a:rPr>
              <a:t>AroundAdvice </a:t>
            </a:r>
            <a:r>
              <a:rPr b="0" lang="ja-JP" sz="1400" spc="-1" strike="noStrike">
                <a:solidFill>
                  <a:srgbClr val="0000ff"/>
                </a:solidFill>
                <a:latin typeface="Arial"/>
              </a:rPr>
              <a:t>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メソッドのコールスタックをさかのぼるように実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2E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トランザクション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TS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Extension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パッケー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透明なサービ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のみでユーザーコードに何も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Tx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関連のコーディングを行わなくてよ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098800" y="4005360"/>
            <a:ext cx="6505560" cy="2247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clud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at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j2ee-config.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tutorial.org.seasar.console.TxCa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2ee:requiredTx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211640" y="5734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spec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記述するだけ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x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抽象クラス・インターフェイスの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特徴的な機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・抽象クラ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普通にはインスタンス化できない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内部で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opProxy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バイトコードエンジニアリングによって拡張（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Enhanced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）クラス生成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124000" y="4508640"/>
            <a:ext cx="662328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org.seasar.Speaker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sample.org.seasar.HelloAdvice“/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24000" y="2997360"/>
            <a:ext cx="6624720" cy="1368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Hello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“Hello”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284720" y="3789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呼ばなければ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O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利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S2AO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の機能をコンテナ機能として実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をシンプルに行え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エレメントを記述するのみ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しなければならない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ava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インターフェイスが１つ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多種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実は必要なかっ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pring Framework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多くのパターンの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があ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インターフェイスや抽象クラスを実装でき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実装オブジェクトパターンを利用でき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とにかく易し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実装への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抽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が新しい概念のために、必勝パターンが確立していない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何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で作ればいいのか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外部に依存する部分を集める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ヒ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例外処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特殊なメソッド実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オブジェクト同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非同期実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Shell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332000" y="1052640"/>
            <a:ext cx="7586640" cy="3024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mple.SpeakerImp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extension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initMetho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addScriptXML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sample-script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initMetho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332000" y="4365720"/>
            <a:ext cx="5497560" cy="1887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7f7f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scrip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joinpoi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say"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languag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hino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bindin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name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bindin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ut.println("hello " + name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crip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shel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140360" y="59500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scrip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スクリプト記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140360" y="299736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外部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XML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ファイル参照をして、メソッド実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40360" y="350028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スクリプトエンジンの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PI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に隠蔽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例外処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42920" y="1268280"/>
            <a:ext cx="7921800" cy="504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xceptionHandle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//</a:t>
            </a:r>
            <a:r>
              <a:rPr b="1" lang="ja-JP" sz="1600" spc="-1" strike="noStrike">
                <a:solidFill>
                  <a:srgbClr val="009999"/>
                </a:solidFill>
                <a:latin typeface="ＭＳ ゴシック"/>
                <a:ea typeface="ＭＳ ゴシック"/>
              </a:rPr>
              <a:t>ハンドラへのアクセッサ省略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boolea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fireExceptionHandler(Joinpoint joinpoint, 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handler.size() == 0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 fals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for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Iterator it = handlers.iterator(); it.hasNext();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ExceptionHandler handler = (ExceptionHandler)it.nex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handler.handleException(joinpoint, e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u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ret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ull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ret = 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Exception 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f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!fireExceptionHandler(joinpoint, e)) {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e;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e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3276720" y="55753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例外発生時、イベントハンドラを発火する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4643280" y="4292640"/>
            <a:ext cx="4321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ry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で保護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オブジェクト同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547640" y="1844640"/>
            <a:ext cx="7086600" cy="2160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SyncObject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Object target = joinpoint.getTarge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synchronize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arge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.proceed()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synchronized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ブロックによってコンポーネントへのマルチスレッドアクセスを排他してい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による非同期実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876320" y="1125360"/>
            <a:ext cx="6799320" cy="5328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CallAdvice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roundAdvic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implement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n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rivate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Joinpoint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 joinpoint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i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.joinpoint = joinpoin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void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run(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ry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joinpoint.proceed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catch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(Throwable ignore)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public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Object invoke(Joinpoint joinpoint)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throw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owable {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Runner runner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AsyncRunner(joinpoint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 thread =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new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Thread(runner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thread.start(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55"/>
                </a:solidFill>
                <a:latin typeface="ＭＳ ゴシック"/>
                <a:ea typeface="ＭＳ ゴシック"/>
              </a:rPr>
              <a:t>return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Boolean.TRU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95640" y="6165720"/>
            <a:ext cx="4537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別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Thread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実行す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995640" y="3716280"/>
            <a:ext cx="453708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oinpoint#proceed()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返値と例外をコールバックする等の工夫の余地あり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23640" y="1270080"/>
            <a:ext cx="5616360" cy="525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プログラミングを行う対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本質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アプリケーション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ス固有の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でない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横断的な関心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アプリケーション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複数クラスで出現する事象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汎用な機能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開発要件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分け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635280" y="2060640"/>
            <a:ext cx="223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356000" y="3789360"/>
            <a:ext cx="1511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940360" y="1413000"/>
            <a:ext cx="3024360" cy="1439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開発要件として都度開発。ビジネスロジックとして、おそらく他に流用が聞かない部位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40360" y="3213000"/>
            <a:ext cx="3024360" cy="20890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あらかじめフレームワーク的に用意されている機能か、繰り返し用いられてるロジックを抽出すると見えてくる。多分にシステムロジック的な内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364000" y="6093000"/>
            <a:ext cx="5050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940360" y="5734080"/>
            <a:ext cx="3024360" cy="7038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OP (Aspect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 Oriented Programinng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&amp;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＆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何かご質問はございます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リソー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http://www.seasar.o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マニュ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2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チュートリア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リンク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ourceforge.j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asar-user 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はてなダイアリ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メリッ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89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関心の分離を行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と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を分け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クラス・バイナリとしても分か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複数の「関心」から成る場合も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再利用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「横断的」であることから、再利用性そのものであ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要件からシステム的機能を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に排出した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は、シンプルな技術で実現され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JB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から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JO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へ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427640" y="5589720"/>
            <a:ext cx="4537080" cy="6422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JO(</a:t>
            </a:r>
            <a:r>
              <a:rPr b="1" lang="ja-JP" sz="2000" spc="-1" strike="noStrike">
                <a:solidFill>
                  <a:srgbClr val="000000"/>
                </a:solidFill>
                <a:latin typeface="Arial"/>
              </a:rPr>
              <a:t>Plain Old Java Objec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0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lain Old=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「平凡な」を意味するイディオ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・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 &amp; 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設定項目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rosscutting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再利用可能な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ユーザー実装もしくは、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プラグイン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org.seasar.framework.aop.Around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インターフェイスを実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Core Concern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との接続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ではコンテナ管理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roundAdvice#invoke(Joinpoint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メソッドの引数を通してアクセスする。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の呼び出し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定義の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の子要素として定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属性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子要素に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e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もしく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登録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属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カンマ区切りで、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たるコンポーネントのメソッド名を列挙す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トークンごとに、正規表現を使用可能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一つ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に複数の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&lt;aspect&gt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出現順序が動作に影響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68360" y="1557360"/>
            <a:ext cx="8424720" cy="4751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?xml version="1.0" encoding="UTF-8"?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async" class="tutorial.org.seasar.console.AsyncCallAdvice"/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component name="paintedCar" class="tutorial.org.seasar.console.PaintedCar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[a-z]{3}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component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0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class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0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org.seasar.shellscript.S2ShellAdvice"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rg&gt;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'sample/org/seasar/shellscript/sample-config.xml'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rg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     </a:t>
            </a: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  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aspec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 </a:t>
            </a:r>
            <a:r>
              <a:rPr b="1" lang="ja-JP" sz="1600" spc="-1" strike="noStrike">
                <a:solidFill>
                  <a:srgbClr val="007f00"/>
                </a:solidFill>
                <a:latin typeface="ＭＳ ゴシック"/>
                <a:ea typeface="ＭＳ ゴシック"/>
              </a:rPr>
              <a:t>pointcut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=</a:t>
            </a:r>
            <a:r>
              <a:rPr b="1" lang="ja-JP" sz="1600" spc="-1" strike="noStrike">
                <a:solidFill>
                  <a:srgbClr val="0000ff"/>
                </a:solidFill>
                <a:latin typeface="ＭＳ ゴシック"/>
                <a:ea typeface="ＭＳ ゴシック"/>
              </a:rPr>
              <a:t>"run, init"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gt;</a:t>
            </a:r>
            <a:r>
              <a:rPr b="1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async</a:t>
            </a:r>
            <a:r>
              <a:rPr b="1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&lt;/aspec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7f007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/components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274920" y="564660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をカンマ区切りで複数トークン指定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274920" y="6149880"/>
            <a:ext cx="532944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にコンポーネント名で参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274920" y="4249800"/>
            <a:ext cx="5329440" cy="58068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aspec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ボディ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Advice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&lt;component&gt;</a:t>
            </a:r>
            <a:r>
              <a:rPr b="1" lang="zh-CN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レメントで定義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76720" y="3716280"/>
            <a:ext cx="5329080" cy="33732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oinitcut</a:t>
            </a:r>
            <a:r>
              <a:rPr b="1" lang="ja-JP" sz="1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属性に正規表現を利用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参考：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登場人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S2Contai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機能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Container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内部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omponen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コンポーネン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componen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De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アスペクト定義を保持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設定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&lt;aspect&gt;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エレメン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S2AOP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において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が実装するインターフェイ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CGLi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バイトコードエンジニアリングライブラリ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627280" y="3213000"/>
            <a:ext cx="6192720" cy="316872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S2Container - AopProx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659640" y="3645000"/>
            <a:ext cx="194616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コンポーネ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132000" y="3645000"/>
            <a:ext cx="3384720" cy="259236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pe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コンポーネントと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の関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4360" y="119664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コンポーネントに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を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Weav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spec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＆ 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から成る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Pointcu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の集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Joinpoint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コンポーネントメソッドをリフレクションす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300720" y="429264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195640" y="429264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195640" y="5562720"/>
            <a:ext cx="2592360" cy="458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rot="16200000">
            <a:off x="1367640" y="4688280"/>
            <a:ext cx="2592360" cy="50508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インターフェイ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300720" y="5589720"/>
            <a:ext cx="2089080" cy="43164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メソッ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788000" y="450864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788000" y="5734080"/>
            <a:ext cx="1512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 rot="16200000">
            <a:off x="4716360" y="4653000"/>
            <a:ext cx="1728720" cy="1008000"/>
          </a:xfrm>
          <a:prstGeom prst="rect">
            <a:avLst/>
          </a:prstGeom>
          <a:solidFill>
            <a:srgbClr val="ff99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v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140360" y="4724280"/>
            <a:ext cx="0" cy="86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48000" y="4941720"/>
            <a:ext cx="1440000" cy="4320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Pointc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24000" y="3213000"/>
            <a:ext cx="1655640" cy="3168720"/>
          </a:xfrm>
          <a:prstGeom prst="rect">
            <a:avLst/>
          </a:prstGeom>
          <a:solidFill>
            <a:srgbClr val="bbe0e3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クライアン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16000" y="450864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116000" y="5805360"/>
            <a:ext cx="107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059280" y="301680"/>
            <a:ext cx="576072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Around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258920" y="980640"/>
            <a:ext cx="5759280" cy="151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Advic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は、実行時期で二分され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Joinpoint#proceed()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を呼ぶ前と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呼ぶ前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読んだ後は </a:t>
            </a:r>
            <a:r>
              <a:rPr b="0" lang="ja-JP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341440" y="2565360"/>
            <a:ext cx="6551640" cy="38163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cla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BS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implement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AroundAdvic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public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Object invoke(Joinpoint joinpoint) 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throw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Throwable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ff0000"/>
                </a:solidFill>
                <a:latin typeface="Arial"/>
              </a:rPr>
              <a:t>Object ret = joinpoint.proceed(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return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 re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774880" y="3645000"/>
            <a:ext cx="5834160" cy="433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Ooops, danger! 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774880" y="4654440"/>
            <a:ext cx="5832720" cy="43200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System.out.println("kikikiki..."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763640" y="386064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763640" y="4869000"/>
            <a:ext cx="8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84720" y="3645000"/>
            <a:ext cx="930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ef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720" y="4653000"/>
            <a:ext cx="71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f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6T13:58:08Z</dcterms:created>
  <dc:creator>Masataka Kurihara</dc:creator>
  <dc:description/>
  <dc:language>en-US</dc:language>
  <cp:lastModifiedBy>Masataka Kurihara</cp:lastModifiedBy>
  <dcterms:modified xsi:type="dcterms:W3CDTF">2004-04-09T07:13:18Z</dcterms:modified>
  <cp:revision>38</cp:revision>
  <dc:subject/>
  <dc:title>スライド 1</dc:title>
</cp:coreProperties>
</file>