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6B02-7B23-4C8C-AC43-B177268EB538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7C95-AD5E-428A-8128-D944DC7C9212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Kestrel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木村　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木村　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skimur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わってい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ロダク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所属会社：リコーソフトウエア（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MM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のレベ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達成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200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www.ricoh-soft.co.j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s2kestrel.oscj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は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2.2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ＡＰＩに依存しないように修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正規表現のＡＰＩな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もちろん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nitTe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全て通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は、ほぼ同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DB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などがバージョン落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名前の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用のコード名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est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本語訳では、チョウゲンボウ（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某案件にて、ＪＶＭのバージョン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使えない。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も、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った方が断然開発がスムー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GLIB(2.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ssist(2.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是非一緒に開発して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ミッタになると良いこ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理解が深ま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然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アのコードを読む機会が増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理解が深まる可能性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Satoshi Kimura</dc:creator>
  <dc:description/>
  <dc:language>en-US</dc:language>
  <cp:lastModifiedBy>羽生　章洋</cp:lastModifiedBy>
  <dcterms:modified xsi:type="dcterms:W3CDTF">2005-07-14T02:58:39Z</dcterms:modified>
  <cp:revision>624</cp:revision>
  <dc:subject/>
  <dc:title>S2Kestrel ～J2SE1.3用のS2Container</dc:title>
</cp:coreProperties>
</file>