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9947275" cy="68151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2916360" cy="12031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35965-0BB3-426E-BD33-65AD5049A389}" type="slidenum">
              <a:rPr b="1" lang="ja-JP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1147680"/>
            <a:ext cx="4124160" cy="1704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B920E-48E6-4844-B768-B0EDD366F7E7}" type="slidenum">
              <a:rPr b="1" lang="ja-JP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hibernate.org/" TargetMode="External"/><Relationship Id="rId2" Type="http://schemas.openxmlformats.org/officeDocument/2006/relationships/hyperlink" Target="http://www.atmarkit.co.jp/fjava/rensai3/ormap01/ormap01.html" TargetMode="External"/><Relationship Id="rId3" Type="http://schemas.openxmlformats.org/officeDocument/2006/relationships/hyperlink" Target="http://www.wikiroom.com/koichik/?Hibernate%20%C6%FE%CC&#32109;" TargetMode="External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Hibernate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超入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995280" y="5589360"/>
            <a:ext cx="496116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小林浩一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(koichi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Lazy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ェッ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関連先オブジェクトのフェッチを先延ばしす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B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から取得するデータを最小限にす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不要な結合を避け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転送するデータ量を低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無駄なインスタンス化を避け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メモリ使用量の低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キャッシュの活用を促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対多関連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Lazy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ェッ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コレクションの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Proxy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により実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Proxy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アクセスしたときにフェッチす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732720" y="2708280"/>
            <a:ext cx="2160360" cy="360036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RD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411280" y="2708280"/>
            <a:ext cx="2160720" cy="18003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オブジェク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592360" y="3608280"/>
            <a:ext cx="1800360" cy="90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レクショ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(Prox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511280" y="5229360"/>
            <a:ext cx="1081080" cy="7189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2050920" y="4508640"/>
            <a:ext cx="144144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3492360" y="450864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3492360" y="4508640"/>
            <a:ext cx="144000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rot="16200000">
            <a:off x="430200" y="2529000"/>
            <a:ext cx="1441440" cy="1800000"/>
          </a:xfrm>
          <a:prstGeom prst="wedgeEllipseCallout">
            <a:avLst>
              <a:gd name="adj1" fmla="val -45925"/>
              <a:gd name="adj2" fmla="val 8068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コレクションにアクセスすると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832360" y="5049720"/>
            <a:ext cx="719280" cy="10810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951280" y="5229360"/>
            <a:ext cx="1081080" cy="7189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392720" y="5229360"/>
            <a:ext cx="1081080" cy="7189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332000" y="5049720"/>
            <a:ext cx="4319640" cy="1079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対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関連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Lazy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ェッ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関連先オブジェクトの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Proxy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により実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one-to-one&gt;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は制約が多いので注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外部キーを使わない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対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が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one-to-one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多重度が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1..1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の場合のみ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Lazy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フェッチでき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外部キーを使う場合は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対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でも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many-to-one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732720" y="1808280"/>
            <a:ext cx="2160360" cy="288108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RD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411280" y="1808280"/>
            <a:ext cx="2160720" cy="541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オブジェク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11280" y="2708280"/>
            <a:ext cx="2160720" cy="1981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オブジェク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(Prox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492360" y="2349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592360" y="3789360"/>
            <a:ext cx="1800360" cy="719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実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rot="16200000">
            <a:off x="430200" y="2349720"/>
            <a:ext cx="1441440" cy="1800000"/>
          </a:xfrm>
          <a:prstGeom prst="wedgeEllipseCallout">
            <a:avLst>
              <a:gd name="adj1" fmla="val -63217"/>
              <a:gd name="adj2" fmla="val 8024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オブジェクトにアクセスすると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392720" y="3608280"/>
            <a:ext cx="2158920" cy="1081080"/>
          </a:xfrm>
          <a:prstGeom prst="leftArrow">
            <a:avLst>
              <a:gd name="adj1" fmla="val 50000"/>
              <a:gd name="adj2" fmla="val 4992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Lazy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ェッチの問題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N+1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問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パフォーマンスに重大な影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732720" y="2708280"/>
            <a:ext cx="2160360" cy="360036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RD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971640" y="2708280"/>
            <a:ext cx="1800000" cy="3600360"/>
          </a:xfrm>
          <a:custGeom>
            <a:avLst/>
            <a:gdLst>
              <a:gd name="textAreaLeft" fmla="*/ 87840 w 1800000"/>
              <a:gd name="textAreaRight" fmla="*/ 1712160 w 1800000"/>
              <a:gd name="textAreaTop" fmla="*/ 87840 h 3600360"/>
              <a:gd name="textAreaBottom" fmla="*/ 3512520 h 360036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332000" y="3608280"/>
            <a:ext cx="1079280" cy="7207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11640" y="4869000"/>
            <a:ext cx="1081080" cy="1439640"/>
          </a:xfrm>
          <a:custGeom>
            <a:avLst/>
            <a:gdLst>
              <a:gd name="textAreaLeft" fmla="*/ 52560 w 1081080"/>
              <a:gd name="textAreaRight" fmla="*/ 1028520 w 1081080"/>
              <a:gd name="textAreaTop" fmla="*/ 52560 h 1439640"/>
              <a:gd name="textAreaBottom" fmla="*/ 1387080 h 1439640"/>
            </a:gdLst>
            <a:ahLst/>
            <a:rect l="textAreaLeft" t="textAreaTop" r="textAreaRight" b="textAreaBottom"/>
            <a:pathLst>
              <a:path w="21600" h="28762">
                <a:moveTo>
                  <a:pt x="3600" y="0"/>
                </a:moveTo>
                <a:arcTo wR="3600" hR="3600" stAng="16200000" swAng="-5400000"/>
                <a:lnTo>
                  <a:pt x="0" y="25162"/>
                </a:lnTo>
                <a:arcTo wR="3600" hR="3600" stAng="10800000" swAng="-5400000"/>
                <a:lnTo>
                  <a:pt x="18000" y="2876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492360" y="3430440"/>
            <a:ext cx="719280" cy="3603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311640" y="3249720"/>
            <a:ext cx="1081080" cy="1439640"/>
          </a:xfrm>
          <a:custGeom>
            <a:avLst/>
            <a:gdLst>
              <a:gd name="textAreaLeft" fmla="*/ 52560 w 1081080"/>
              <a:gd name="textAreaRight" fmla="*/ 1028520 w 1081080"/>
              <a:gd name="textAreaTop" fmla="*/ 52560 h 1439640"/>
              <a:gd name="textAreaBottom" fmla="*/ 1387080 h 1439640"/>
            </a:gdLst>
            <a:ahLst/>
            <a:rect l="textAreaLeft" t="textAreaTop" r="textAreaRight" b="textAreaBottom"/>
            <a:pathLst>
              <a:path w="21600" h="28762">
                <a:moveTo>
                  <a:pt x="3600" y="0"/>
                </a:moveTo>
                <a:arcTo wR="3600" hR="3600" stAng="16200000" swAng="-5400000"/>
                <a:lnTo>
                  <a:pt x="0" y="25162"/>
                </a:lnTo>
                <a:arcTo wR="3600" hR="3600" stAng="10800000" swAng="-5400000"/>
                <a:lnTo>
                  <a:pt x="18000" y="2876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2411280" y="3607920"/>
            <a:ext cx="10810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411280" y="3968640"/>
            <a:ext cx="10810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2411280" y="5229000"/>
            <a:ext cx="10810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411280" y="5589720"/>
            <a:ext cx="10810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951280" y="2708280"/>
            <a:ext cx="3600360" cy="360360"/>
          </a:xfrm>
          <a:prstGeom prst="leftArrow">
            <a:avLst>
              <a:gd name="adj1" fmla="val 50000"/>
              <a:gd name="adj2" fmla="val 2497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572000" y="3789360"/>
            <a:ext cx="1979640" cy="360360"/>
          </a:xfrm>
          <a:prstGeom prst="leftArrow">
            <a:avLst>
              <a:gd name="adj1" fmla="val 50000"/>
              <a:gd name="adj2" fmla="val 13733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572000" y="5408640"/>
            <a:ext cx="1979640" cy="360360"/>
          </a:xfrm>
          <a:prstGeom prst="leftArrow">
            <a:avLst>
              <a:gd name="adj1" fmla="val 50000"/>
              <a:gd name="adj2" fmla="val 13733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332000" y="5229360"/>
            <a:ext cx="1079280" cy="7207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492360" y="4149720"/>
            <a:ext cx="719280" cy="3603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492360" y="5049720"/>
            <a:ext cx="719280" cy="3603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5769000"/>
            <a:ext cx="719280" cy="3603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Batch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ェッ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複数の関連をまとめてフェッ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(N/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バッチサイズ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)+1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クセ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32720" y="2708280"/>
            <a:ext cx="2160360" cy="378000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RD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971640" y="2708280"/>
            <a:ext cx="1800000" cy="3780000"/>
          </a:xfrm>
          <a:custGeom>
            <a:avLst/>
            <a:gdLst>
              <a:gd name="textAreaLeft" fmla="*/ 87840 w 1800000"/>
              <a:gd name="textAreaRight" fmla="*/ 1712160 w 1800000"/>
              <a:gd name="textAreaTop" fmla="*/ 87840 h 3780000"/>
              <a:gd name="textAreaBottom" fmla="*/ 3692160 h 3780000"/>
            </a:gdLst>
            <a:ahLst/>
            <a:rect l="textAreaLeft" t="textAreaTop" r="textAreaRight" b="textAreaBottom"/>
            <a:pathLst>
              <a:path w="21600" h="45355">
                <a:moveTo>
                  <a:pt x="3600" y="0"/>
                </a:moveTo>
                <a:arcTo wR="3600" hR="3600" stAng="16200000" swAng="-5400000"/>
                <a:lnTo>
                  <a:pt x="0" y="41755"/>
                </a:lnTo>
                <a:arcTo wR="3600" hR="3600" stAng="10800000" swAng="-5400000"/>
                <a:lnTo>
                  <a:pt x="18000" y="4535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332000" y="3249720"/>
            <a:ext cx="1079280" cy="7207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92360" y="3429000"/>
            <a:ext cx="719280" cy="3603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11640" y="3249720"/>
            <a:ext cx="1081080" cy="1798560"/>
          </a:xfrm>
          <a:custGeom>
            <a:avLst/>
            <a:gdLst>
              <a:gd name="textAreaLeft" fmla="*/ 52560 w 1081080"/>
              <a:gd name="textAreaRight" fmla="*/ 1028520 w 1081080"/>
              <a:gd name="textAreaTop" fmla="*/ 52560 h 1798560"/>
              <a:gd name="textAreaBottom" fmla="*/ 1746000 h 1798560"/>
            </a:gdLst>
            <a:ahLst/>
            <a:rect l="textAreaLeft" t="textAreaTop" r="textAreaRight" b="textAreaBottom"/>
            <a:pathLst>
              <a:path w="21600" h="35930">
                <a:moveTo>
                  <a:pt x="3600" y="0"/>
                </a:moveTo>
                <a:arcTo wR="3600" hR="3600" stAng="16200000" swAng="-5400000"/>
                <a:lnTo>
                  <a:pt x="0" y="32330"/>
                </a:lnTo>
                <a:arcTo wR="3600" hR="3600" stAng="10800000" swAng="-5400000"/>
                <a:lnTo>
                  <a:pt x="18000" y="359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411280" y="360828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411280" y="3608280"/>
            <a:ext cx="1081080" cy="54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411280" y="4689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951280" y="2708280"/>
            <a:ext cx="3600360" cy="360360"/>
          </a:xfrm>
          <a:prstGeom prst="leftArrow">
            <a:avLst>
              <a:gd name="adj1" fmla="val 50000"/>
              <a:gd name="adj2" fmla="val 2497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0" y="3787920"/>
            <a:ext cx="1979640" cy="360360"/>
          </a:xfrm>
          <a:prstGeom prst="leftArrow">
            <a:avLst>
              <a:gd name="adj1" fmla="val 50000"/>
              <a:gd name="adj2" fmla="val 13733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332000" y="4329000"/>
            <a:ext cx="1079280" cy="7207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2360" y="3968640"/>
            <a:ext cx="719280" cy="3603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92360" y="4508640"/>
            <a:ext cx="719280" cy="3603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2411280" y="5587560"/>
            <a:ext cx="1081080" cy="1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411280" y="5769000"/>
            <a:ext cx="10810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332000" y="5408640"/>
            <a:ext cx="1079280" cy="7207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2360" y="5408640"/>
            <a:ext cx="719280" cy="3603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2360" y="5950080"/>
            <a:ext cx="719280" cy="3603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751280" y="4148280"/>
            <a:ext cx="18003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バッチサイズが</a:t>
            </a:r>
            <a:br>
              <a:rPr sz="1800"/>
            </a:b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の場合</a:t>
            </a:r>
            <a:br>
              <a:rPr sz="18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※実際にはバッチサイズ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はうまく動作しな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311640" y="5229360"/>
            <a:ext cx="1081080" cy="1258920"/>
          </a:xfrm>
          <a:custGeom>
            <a:avLst/>
            <a:gdLst>
              <a:gd name="textAreaLeft" fmla="*/ 52560 w 1081080"/>
              <a:gd name="textAreaRight" fmla="*/ 1028520 w 1081080"/>
              <a:gd name="textAreaTop" fmla="*/ 52560 h 1258920"/>
              <a:gd name="textAreaBottom" fmla="*/ 1206360 h 1258920"/>
            </a:gdLst>
            <a:ahLst/>
            <a:rect l="textAreaLeft" t="textAreaTop" r="textAreaRight" b="textAreaBottom"/>
            <a:pathLst>
              <a:path w="21600" h="25152">
                <a:moveTo>
                  <a:pt x="3600" y="0"/>
                </a:moveTo>
                <a:arcTo wR="3600" hR="3600" stAng="16200000" swAng="-5400000"/>
                <a:lnTo>
                  <a:pt x="0" y="21552"/>
                </a:lnTo>
                <a:arcTo wR="3600" hR="3600" stAng="10800000" swAng="-5400000"/>
                <a:lnTo>
                  <a:pt x="18000" y="2515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572000" y="5587920"/>
            <a:ext cx="1979640" cy="360360"/>
          </a:xfrm>
          <a:prstGeom prst="leftArrow">
            <a:avLst>
              <a:gd name="adj1" fmla="val 50000"/>
              <a:gd name="adj2" fmla="val 13733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Eage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ェッ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関連元と関連先をまとめてフェッ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B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へのアクセス回数を低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外部結合を使った問い合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732720" y="3429000"/>
            <a:ext cx="2160360" cy="287964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RD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971640" y="3429000"/>
            <a:ext cx="3600360" cy="2879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332000" y="3789360"/>
            <a:ext cx="1079280" cy="7207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492360" y="3611520"/>
            <a:ext cx="719280" cy="3603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411280" y="3789000"/>
            <a:ext cx="10810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411280" y="4149720"/>
            <a:ext cx="10810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2411280" y="5229000"/>
            <a:ext cx="10810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11280" y="5589720"/>
            <a:ext cx="10810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751280" y="4689360"/>
            <a:ext cx="1800360" cy="360360"/>
          </a:xfrm>
          <a:prstGeom prst="leftArrow">
            <a:avLst>
              <a:gd name="adj1" fmla="val 50000"/>
              <a:gd name="adj2" fmla="val 1249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332000" y="5229360"/>
            <a:ext cx="1079280" cy="7207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492360" y="4329000"/>
            <a:ext cx="719280" cy="3603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492360" y="5049720"/>
            <a:ext cx="719280" cy="3603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492360" y="5769000"/>
            <a:ext cx="719280" cy="3603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いつフェッチが発生するか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問い合わせ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HQ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問い合わせの指定に従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ri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問い合わせの指定とマッピングの指定に従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ID(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主キー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によるロード時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(load/ge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マッピングの指定に従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関連のナビゲート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マッピングの指定に従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ェッチ方法の指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マッピングファイルで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Lazy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ェッチを指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マッピングファイルで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Eage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ェッチを指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Eage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ェッチの深さを指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Criteria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で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Eage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ェッチを指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HQ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で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Eage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ェッチを指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マッピングファイルに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Lazy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フェッチを指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対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関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関連先の永続クラスに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lazy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属性を指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対多関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Lazy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ェッチする関連に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lazy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属性を指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692360" y="4508640"/>
            <a:ext cx="720072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set name="..." </a:t>
            </a:r>
            <a:r>
              <a:rPr b="0" lang="ja-JP" sz="2400" spc="-1" strike="noStrike">
                <a:solidFill>
                  <a:srgbClr val="ff0000"/>
                </a:solidFill>
                <a:latin typeface="Arial"/>
              </a:rPr>
              <a:t>lazy="true"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2360" y="2349360"/>
            <a:ext cx="720072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class name="..." </a:t>
            </a:r>
            <a:r>
              <a:rPr b="0" lang="ja-JP" sz="2400" spc="-1" strike="noStrike">
                <a:solidFill>
                  <a:srgbClr val="ff0000"/>
                </a:solidFill>
                <a:latin typeface="Arial"/>
              </a:rPr>
              <a:t>lazy="true"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マッピングファイルに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Batch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フェッチを指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対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関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関連先の永続クラスに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batch-siz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属性を指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対多関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Batch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ェッチする関連に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batch-siz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属性を指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2360" y="4508640"/>
            <a:ext cx="720072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set name="..." lazy="true" </a:t>
            </a:r>
            <a:r>
              <a:rPr b="0" lang="ja-JP" sz="2400" spc="-1" strike="noStrike">
                <a:solidFill>
                  <a:srgbClr val="ff0000"/>
                </a:solidFill>
                <a:latin typeface="Arial"/>
              </a:rPr>
              <a:t>batch-size="3"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692360" y="2349360"/>
            <a:ext cx="720072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class name="..." lazy="true" </a:t>
            </a:r>
            <a:r>
              <a:rPr b="0" lang="ja-JP" sz="2400" spc="-1" strike="noStrike">
                <a:solidFill>
                  <a:srgbClr val="ff0000"/>
                </a:solidFill>
                <a:latin typeface="Arial"/>
              </a:rPr>
              <a:t>batch-size="3"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Hibernat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概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Hibernat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って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Hibernat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全体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Hibernat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特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Hibernat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情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マッピングファイルに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Eage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フェッチを指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対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関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多対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関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対多関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692360" y="1808280"/>
            <a:ext cx="7200720" cy="107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one-to-one name="..." 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2400" spc="-1" strike="noStrike">
                <a:solidFill>
                  <a:srgbClr val="ff0000"/>
                </a:solidFill>
                <a:latin typeface="Arial"/>
              </a:rPr>
              <a:t>constrained="true" outer-join="true"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692360" y="3608280"/>
            <a:ext cx="720072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many-to-on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name="..." </a:t>
            </a:r>
            <a:r>
              <a:rPr b="0" lang="ja-JP" sz="2400" spc="-1" strike="noStrike">
                <a:solidFill>
                  <a:srgbClr val="ff0000"/>
                </a:solidFill>
                <a:latin typeface="Arial"/>
              </a:rPr>
              <a:t>outer-join="true"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92360" y="5408640"/>
            <a:ext cx="720072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se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name="..." </a:t>
            </a:r>
            <a:r>
              <a:rPr b="0" lang="ja-JP" sz="2400" spc="-1" strike="noStrike">
                <a:solidFill>
                  <a:srgbClr val="ff0000"/>
                </a:solidFill>
                <a:latin typeface="Arial"/>
              </a:rPr>
              <a:t>outer-join="true"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Eage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ェッチの深さを指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関連をいくつまで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Eage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ェッチする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深すぎると無駄な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B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クセスが増え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hibernate.max_fetch_depth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プロパティで指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結合の数ではない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多対多関連の関連テーブルは数えな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11280" y="2889360"/>
            <a:ext cx="1439640" cy="7189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050920" y="324972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211640" y="324972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372360" y="324972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rot="5400000">
            <a:off x="2321280" y="2078640"/>
            <a:ext cx="179280" cy="3600360"/>
          </a:xfrm>
          <a:custGeom>
            <a:avLst/>
            <a:gdLst>
              <a:gd name="textAreaLeft" fmla="*/ 0 w 179280"/>
              <a:gd name="textAreaRight" fmla="*/ 64800 w 179280"/>
              <a:gd name="textAreaTop" fmla="*/ 93600 h 3600360"/>
              <a:gd name="textAreaBottom" fmla="*/ 3506760 h 360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50920" y="396864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max_fetch_depth=1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の場合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デフォルト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rot="5400000">
            <a:off x="3401640" y="1898280"/>
            <a:ext cx="179640" cy="5761080"/>
          </a:xfrm>
          <a:custGeom>
            <a:avLst/>
            <a:gdLst>
              <a:gd name="textAreaLeft" fmla="*/ 0 w 179640"/>
              <a:gd name="textAreaRight" fmla="*/ 64800 w 179640"/>
              <a:gd name="textAreaTop" fmla="*/ 150120 h 5761080"/>
              <a:gd name="textAreaBottom" fmla="*/ 5610960 h 576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11280" y="4869000"/>
            <a:ext cx="57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max_fetch_depth=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の場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771640" y="2889360"/>
            <a:ext cx="1440000" cy="7189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932360" y="2889360"/>
            <a:ext cx="1440000" cy="7189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7093080" y="2889360"/>
            <a:ext cx="1439640" cy="7189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riteria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で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Eage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ェッチを指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Criteria#setFetchMode()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で指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指定がないとマッピングファイルに従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692360" y="1808280"/>
            <a:ext cx="7200720" cy="143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ssion.createCriteria(Order.class)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 .</a:t>
            </a:r>
            <a:r>
              <a:rPr b="0" lang="ja-JP" sz="2400" spc="-1" strike="noStrike">
                <a:solidFill>
                  <a:srgbClr val="ff0000"/>
                </a:solidFill>
                <a:latin typeface="Arial"/>
              </a:rPr>
              <a:t>setFetchMode("item", FetchMode.EAGER)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 .list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HQ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で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Eage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ェッチを指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明示的に結合す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HQ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はマッピングファイルの指定を無視！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暗黙的に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Eage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ェッチしな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結合されていない関連は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Lazy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ェッチにな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692360" y="1808280"/>
            <a:ext cx="7200720" cy="143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ssion.createQuery(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"from Order o </a:t>
            </a:r>
            <a:r>
              <a:rPr b="0" lang="ja-JP" sz="2400" spc="-1" strike="noStrike">
                <a:solidFill>
                  <a:srgbClr val="ff0000"/>
                </a:solidFill>
                <a:latin typeface="Arial"/>
              </a:rPr>
              <a:t>left outer join fetch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o.item")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 .list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ェッチ戦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Lazy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ェッチを基本にす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マッピングでは原則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Lazy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ェッ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不要な問い合せを避けるた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必要に応じて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Eage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ェッ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問い合わせで明示的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神経質になりすぎな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パフォーマンスを測定して判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ある程度お任せしてこそ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Hibernat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使う甲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Hibernat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って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O/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マッピングフレームワー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RDB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へのアクセスを簡単に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オープンソー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ライセンスは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LG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Gavin King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氏が中心に開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Hibernat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全体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732720" y="1268280"/>
            <a:ext cx="2160360" cy="288144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RD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50920" y="1268280"/>
            <a:ext cx="2160360" cy="2881440"/>
          </a:xfrm>
          <a:custGeom>
            <a:avLst/>
            <a:gdLst>
              <a:gd name="textAreaLeft" fmla="*/ 105120 w 2160360"/>
              <a:gd name="textAreaRight" fmla="*/ 2055240 w 2160360"/>
              <a:gd name="textAreaTop" fmla="*/ 105120 h 2881440"/>
              <a:gd name="textAreaBottom" fmla="*/ 2776320 h 2881440"/>
            </a:gdLst>
            <a:ahLst/>
            <a:rect l="textAreaLeft" t="textAreaTop" r="textAreaRight" b="textAreaBottom"/>
            <a:pathLst>
              <a:path w="21600" h="28808">
                <a:moveTo>
                  <a:pt x="3600" y="0"/>
                </a:moveTo>
                <a:arcTo wR="3600" hR="3600" stAng="16200000" swAng="-5400000"/>
                <a:lnTo>
                  <a:pt x="0" y="25208"/>
                </a:lnTo>
                <a:arcTo wR="3600" hR="3600" stAng="10800000" swAng="-5400000"/>
                <a:lnTo>
                  <a:pt x="18000" y="2880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永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クラ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2000" y="1268280"/>
            <a:ext cx="2880000" cy="2881440"/>
          </a:xfrm>
          <a:custGeom>
            <a:avLst/>
            <a:gdLst>
              <a:gd name="textAreaLeft" fmla="*/ 140400 w 2880000"/>
              <a:gd name="textAreaRight" fmla="*/ 2739600 w 2880000"/>
              <a:gd name="textAreaTop" fmla="*/ 140400 h 2881440"/>
              <a:gd name="textAreaBottom" fmla="*/ 2741040 h 2881440"/>
            </a:gdLst>
            <a:ahLst/>
            <a:rect l="textAreaLeft" t="textAreaTop" r="textAreaRight" b="textAreaBottom"/>
            <a:pathLst>
              <a:path w="21600" h="21611">
                <a:moveTo>
                  <a:pt x="3600" y="0"/>
                </a:moveTo>
                <a:arcTo wR="3600" hR="3600" stAng="16200000" swAng="-5400000"/>
                <a:lnTo>
                  <a:pt x="0" y="18011"/>
                </a:lnTo>
                <a:arcTo wR="3600" hR="3600" stAng="10800000" swAng="-5400000"/>
                <a:lnTo>
                  <a:pt x="18000" y="216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99"/>
                </a:solidFill>
                <a:latin typeface="Arial"/>
              </a:rPr>
              <a:t>Hibern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32000" y="4869000"/>
            <a:ext cx="2880000" cy="14396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マッピン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ファイ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11280" y="2349360"/>
            <a:ext cx="720720" cy="72072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012000" y="2349360"/>
            <a:ext cx="720720" cy="72072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211640" y="4149720"/>
            <a:ext cx="720720" cy="72072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012000" y="4149720"/>
            <a:ext cx="2520720" cy="1440000"/>
          </a:xfrm>
          <a:custGeom>
            <a:avLst/>
            <a:gdLst>
              <a:gd name="textAreaLeft" fmla="*/ 723600 w 2520720"/>
              <a:gd name="textAreaRight" fmla="*/ 2158920 w 2520720"/>
              <a:gd name="textAreaTop" fmla="*/ 829440 h 1440000"/>
              <a:gd name="textAreaBottom" fmla="*/ 123336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rot="5400000">
            <a:off x="1151640" y="3609360"/>
            <a:ext cx="1440000" cy="2520720"/>
          </a:xfrm>
          <a:custGeom>
            <a:avLst/>
            <a:gdLst>
              <a:gd name="textAreaLeft" fmla="*/ 413280 w 1440000"/>
              <a:gd name="textAreaRight" fmla="*/ 1233360 w 1440000"/>
              <a:gd name="textAreaTop" fmla="*/ 1451880 h 2520720"/>
              <a:gd name="textAreaBottom" fmla="*/ 215892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5589720"/>
            <a:ext cx="2340000" cy="6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XDoc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←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hbm2j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32720" y="5589720"/>
            <a:ext cx="2160360" cy="6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←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Middle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hbm2dd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272360" y="3068640"/>
            <a:ext cx="1081080" cy="5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632720" y="3068640"/>
            <a:ext cx="0" cy="539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993080" y="3068640"/>
            <a:ext cx="0" cy="539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272360" y="3247920"/>
            <a:ext cx="10810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272360" y="3427560"/>
            <a:ext cx="10810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71640" y="2708280"/>
            <a:ext cx="720720" cy="358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792000" y="3068280"/>
            <a:ext cx="54000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 flipV="1">
            <a:off x="1331640" y="3068280"/>
            <a:ext cx="53964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31640" y="3429000"/>
            <a:ext cx="719280" cy="358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511280" y="3429000"/>
            <a:ext cx="720720" cy="36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Hibernat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特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永続オブジェクトは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POJ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柔軟なマッピン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関連のマッピン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対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・多対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対多・多対多，単方向・双方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対多関連はコレクション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配列・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Lis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Map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Bag)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で表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継承のマッピン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強力な問い合せ言語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(HQ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外部結合が可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集計関数も使用可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Hibernat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情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書籍・雑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Manning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Hibernate in Acti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技術評論社「オープンソース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ava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プロダクツ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翔泳社「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B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マガジン」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月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We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公式サイト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リファレンスの日本語訳あり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hibernate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@I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「簡単なプログラムで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O/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マッピング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...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tmarkit.co.jp/fjava/rensai3/ormap01/ormap01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Hibernat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入門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wikiroom.com/koichik/?Hibernate%20%C6%FE%CC%E7%B5%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ェッ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ェッチって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ェッチの種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いつフェッチが発生する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ェッチ方法の指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ェッチ戦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ェッチって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Hibernat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が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RDB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から永続オブジェクトを</a:t>
            </a:r>
            <a:br>
              <a:rPr sz="3200"/>
            </a:b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ロードするこ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LEC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文が発行され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永続オブジェクトがインスタンス化され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451640" y="3429000"/>
            <a:ext cx="1441440" cy="287964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RD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951280" y="3429000"/>
            <a:ext cx="2701800" cy="2879640"/>
          </a:xfrm>
          <a:custGeom>
            <a:avLst/>
            <a:gdLst>
              <a:gd name="textAreaLeft" fmla="*/ 131760 w 2701800"/>
              <a:gd name="textAreaRight" fmla="*/ 2570040 w 2701800"/>
              <a:gd name="textAreaTop" fmla="*/ 131760 h 2879640"/>
              <a:gd name="textAreaBottom" fmla="*/ 2747880 h 2879640"/>
            </a:gdLst>
            <a:ahLst/>
            <a:rect l="textAreaLeft" t="textAreaTop" r="textAreaRight" b="textAreaBottom"/>
            <a:pathLst>
              <a:path w="21600" h="23022">
                <a:moveTo>
                  <a:pt x="3600" y="0"/>
                </a:moveTo>
                <a:arcTo wR="3600" hR="3600" stAng="16200000" swAng="-5400000"/>
                <a:lnTo>
                  <a:pt x="0" y="19422"/>
                </a:lnTo>
                <a:arcTo wR="3600" hR="3600" stAng="10800000" swAng="-5400000"/>
                <a:lnTo>
                  <a:pt x="18000" y="2302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Hibern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311640" y="5589720"/>
            <a:ext cx="1981080" cy="53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キャッシ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832360" y="3968640"/>
            <a:ext cx="1440000" cy="360360"/>
          </a:xfrm>
          <a:prstGeom prst="rightArrow">
            <a:avLst>
              <a:gd name="adj1" fmla="val 50000"/>
              <a:gd name="adj2" fmla="val 999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651640" y="360828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LEC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72000" y="4508640"/>
            <a:ext cx="1800360" cy="360360"/>
          </a:xfrm>
          <a:prstGeom prst="leftArrow">
            <a:avLst>
              <a:gd name="adj1" fmla="val 50000"/>
              <a:gd name="adj2" fmla="val 1249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012000" y="4870440"/>
            <a:ext cx="1081080" cy="54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372360" y="4870440"/>
            <a:ext cx="0" cy="539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732720" y="4870440"/>
            <a:ext cx="0" cy="539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012000" y="5049720"/>
            <a:ext cx="10810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012000" y="5229360"/>
            <a:ext cx="10810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832360" y="540864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結果セッ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311640" y="4329000"/>
            <a:ext cx="198108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インスタンス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851280" y="5049720"/>
            <a:ext cx="900000" cy="54000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71640" y="4508640"/>
            <a:ext cx="720720" cy="3585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431640" y="4868640"/>
            <a:ext cx="900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 flipV="1">
            <a:off x="1332000" y="4868640"/>
            <a:ext cx="90000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1332000" y="486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871640" y="4508640"/>
            <a:ext cx="1260360" cy="360360"/>
          </a:xfrm>
          <a:prstGeom prst="leftArrow">
            <a:avLst>
              <a:gd name="adj1" fmla="val 50000"/>
              <a:gd name="adj2" fmla="val 8743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1280" y="5229360"/>
            <a:ext cx="720720" cy="3585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971640" y="5229360"/>
            <a:ext cx="720720" cy="3585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871640" y="5229360"/>
            <a:ext cx="720720" cy="3585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ェッチの種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Lazy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ェッ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関連先は後でフェッ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Batch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ェッ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Lazy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ェッチのバリエーショ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関連のいくつかをまとめてフェッ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Eage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ェッ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関連先もまとめてフェッ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小林浩一</cp:lastModifiedBy>
  <dcterms:modified xsi:type="dcterms:W3CDTF">2004-11-16T17:10:25Z</dcterms:modified>
  <cp:revision>62</cp:revision>
  <dc:subject/>
  <dc:title>スライド 1</dc:title>
</cp:coreProperties>
</file>