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B79F-107A-4041-A58E-7B593C466E84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1498-22DE-4FB6-A53C-441E00130731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44560"/>
            <a:ext cx="8578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からさわぎ＠東京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２００４　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Final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11.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激動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（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からさわぎ＠大阪開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全編「くーす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くーす本出版決定！（来年春ご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この頃各コミッタから随時リリースが続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そして今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のからさわぎ＠東京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2004 Fi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現在のコミッ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ひがさ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たかい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ほそかわ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あがたさん＆まさたか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ijimun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きむら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るお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Tapestr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おかざき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こばやし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xi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くたに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aven.repo.remo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現在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ァミリ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コアプロダク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IContain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AOP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アライアンスに準拠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T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トランザクションの自動制御 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とコネクションプールを使うことも可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DBCP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コネクションプーリング 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JDBC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akart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bUtil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みたいなもの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ORM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フレームワーク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Unit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テストファーストのためのツール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周辺プロダク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設定ファイルを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記述できる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Flash Remoting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Kijimuna(Seasar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Hibern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Stru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Tape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他にも有志の方の草の根プロダクトがいろいろあります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DaoMake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Page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WebWork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など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今後の予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Remo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これからの未来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どうなっていくの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どうなっていくの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ロードマッ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11.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ひがやす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ロードマッ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Dao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来年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ページングのネイティブサポー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: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マッピ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Remoting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今年中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SF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今年中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y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の統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aya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今年開始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3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来年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月開始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統合し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3D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The Seasar Project 20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ジェクト設立準備委員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の目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の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の発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社会的責任の増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成果物の付加価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運営力が弱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成果物開発推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ソフトウェア製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デザイン理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関連ドキュメンテー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運営力向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サーバー環境整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組織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運営力（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プロジェクトサーバー環境整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現在、各種インターネット無償サービスに分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ourceForge /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はてな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＠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if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企業内よりアクセスできないなどの弊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ドメインへのアクセス制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トコル・メソッドの制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整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ソフトウェア開発・展開が可能なサーバー構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ジェクト製品を利用したリファレンス実装として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.org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構築することが目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ミッター募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運営力（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法人の設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法人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定非営利活動法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非営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法人組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内閣総理大臣（内閣府）の認可によ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法人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法的庇護を得られ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社会的認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透明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監督省庁による監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運営（特に財務等）について監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永続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属人性を排除することによる永続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社会的使命のライフサイクル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法人のライフサイク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本日の開催におい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スポンサー様・スタッフの皆さん、そして何よりもお集まり頂いた皆様に厚く御礼申し上げま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本日の開催を支えてくださった企業の皆様（敬称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株）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F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、（株）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F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システム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会場のご提供ならびに運営のご支援をいただいておりま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技術評論社、翔泳社、ソフトバンクパブリッシング、日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社（順不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皆さんお楽しみのプレゼントをたくさんご提供いただきまし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法人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法人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ジェクトの目的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= NP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法人の目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ジェクトの運営を行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ジェクトの権利義務を代表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時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開始（予定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法人審査期間が申請より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ヶ月以内に成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中に内閣府に設立申請を行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組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会員総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理事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ミッター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費用と収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の費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ソフトウェア開発のための備品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ロジェクト運営のためのサーバー環境・回線・運営と備品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カンファレンス開催費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会員事務通信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専従事務員人件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の収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個人会員会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法人会員会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行政助成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カンファレンス参加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グッズ販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会計監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監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監督行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情報開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会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ロジェクト会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会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プロジェクト成果物を利用したい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会員資格を特に設けな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の精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会費な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名簿な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個人会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プロジェクトの趣旨に賛同し会費を負担いただける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会費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会員特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会費負担期の会員名簿記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会員総会の票決参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法人会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プロジェクトの趣旨に賛同し会費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口数以上負担いただける法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口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プロジェクト成果利用状況、法人規模に応じて口数をお願いする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会員特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上に賛同法人リストに記載表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会費負担期の会員名簿記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会員総会の票決数は口数に関わらず、法人毎に１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個人および法人会員特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会員特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バージョンのダウンロ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新機能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最新情報を盛り込んだメールマガジ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ミッターとの懇親会参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ブックレットの送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グッズの割引販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法人会員特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有償サポートサービス等の認定・バックアッ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＊現時点では上記は企画案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法人設立時の理事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法人設立時に、理事会名簿の登記義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理事会名簿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代表理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栗原傑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株）グルージェ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理事 プロジェクト開発担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比嘉康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理事 プロジェクト運営担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羽生章洋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株）スターロジ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監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？？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644560"/>
            <a:ext cx="8578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11.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繰り返しですがお約束の諸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受付の際の参加票を持参して、各会場にお入り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飲食は会議室の中でお願いし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８階・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階以外のフロアには立ち入らないようにして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建物内は禁煙です。たばこは各フロアに一箇所ずつある喫煙場所でお願いし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ゴミは出来る限りお持ち帰り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して今ここにある未来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テクノロジトラ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じめて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入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超入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ijimun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通して見るディープ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ワール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ビジネストラ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じめてのマジ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ブジェクト指向設計の原則と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録！　いかにして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提案して採用に至った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してデザイントラック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まるごと「くーす」三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物足りない人は、夜の部へ！　そして朝まで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大プレゼント大会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スポンサー様からのプレゼントです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We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さぁ、からさわごう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合言葉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「もっと優しく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もっと易しく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ご挨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株式会社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FFC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システム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代表取締役社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田口　嘉之　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約束の諸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受付の際の参加票を持参して、各会場にお入り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飲食は会議室の中でお願いし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８階・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階以外のフロアには立ち入らないようにして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建物内は禁煙です。たばこは各フロアに一箇所ずつある喫煙場所でお願いし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ゴミは出来る限りお持ち帰り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2463480"/>
            <a:ext cx="8273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The Seasar Project 2004</a:t>
            </a:r>
            <a:br>
              <a:rPr sz="44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~Seasa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過去・現在・そして未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hat Is “Seasar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ープンソース（ライセンス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SL1.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純国産（メイン開発者はひがやすをさん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レームワ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呼び方は「しーさー」で沖縄の狛犬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?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こと。ひがさんは沖縄出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目指すも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解体と再構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美味しいところを手軽に利用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易しさ」 と「優しさ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’s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歴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前～ひがさんオリジナ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TA,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ネクションプーリングなどな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初期版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～スターロジック用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omcat,iBATI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と組み合わせて、外国為替オンライントレーディングシステムで使用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EB+DB PRESS Vol.15,16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参照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 V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～オールインワン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owlet,Rulet,Sqlet,Jetty,HSQLDB,GPSS,Eclips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ラグインなどが整備され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/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として華麗に進化！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従来の機能を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ベースで再構築し、よりしなやかに強靭になった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年　新しい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開発スタイル「ダイコン時代」の幕開け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激動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 EA1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.0.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からさわぎ＠東京開催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8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元々は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リリースに合わせた勉強会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「からさわぎ」は最後のひとコマのタイトルのはずが、以後メインタイトル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当時、はてな界隈でアニソンカラオケブームだったのでついでにカラオケ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）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かくして変な伝統が生まれ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への理解　⇒　どう設計すればいいの？　という質問</a:t>
            </a:r>
            <a:br>
              <a:rPr sz="1600"/>
            </a:b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⇒　設計の指針を作っていきましょう　という表明</a:t>
            </a:r>
            <a:br>
              <a:rPr sz="1600"/>
            </a:b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⇒　ダイコン時代の設計手法「くーす」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Kijimuna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の開発宣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JDB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「ダイコン」という言葉の誕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激動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（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からさわぎ＠沖縄開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公開の場での事例紹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実は、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の時点でアンケートの結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件以上の事例があったが非公開のまま（すみません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の頃から露出が増えてく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雑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ch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笑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コミッタ増員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DaoV1.0.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からさわぎ＠福岡開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ダイコン時代のアーキテクチャと設計技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からの流れの一区切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次の課題は、設計のインプットである「業務フローの作成方法」　⇒　マジカ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羽生　章洋</cp:lastModifiedBy>
  <dcterms:modified xsi:type="dcterms:W3CDTF">2004-11-24T04:38:25Z</dcterms:modified>
  <cp:revision>198</cp:revision>
  <dc:subject/>
  <dc:title>スライド 1</dc:title>
</cp:coreProperties>
</file>