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059280" y="2602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059280" y="2602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71280" y="-1440"/>
            <a:ext cx="9072720" cy="6815160"/>
            <a:chOff x="71280" y="-1440"/>
            <a:chExt cx="9072720" cy="6815160"/>
          </a:xfrm>
        </p:grpSpPr>
        <p:sp>
          <p:nvSpPr>
            <p:cNvPr id="1" name=""/>
            <p:cNvSpPr/>
            <p:nvPr/>
          </p:nvSpPr>
          <p:spPr>
            <a:xfrm>
              <a:off x="4643280" y="6597720"/>
              <a:ext cx="411984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900" spc="-1" strike="noStrike">
                  <a:solidFill>
                    <a:srgbClr val="000000"/>
                  </a:solidFill>
                  <a:latin typeface="Tahoma"/>
                </a:rPr>
                <a:t>© Copyright The Seasar Project and others 2004. all rights reserved.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71280" y="-1440"/>
              <a:ext cx="2916360" cy="134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619280" y="836640"/>
              <a:ext cx="7524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643280" y="6597720"/>
              <a:ext cx="4500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748720" y="6454800"/>
              <a:ext cx="287280" cy="287280"/>
            </a:xfrm>
            <a:prstGeom prst="ellipse">
              <a:avLst/>
            </a:prstGeom>
            <a:solidFill>
              <a:srgbClr val="ff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7049DACB-7D4F-488D-B576-4E9B068BDCB6}" type="slidenum">
                <a:rPr b="1" lang="ja-JP" sz="900" spc="-1" strike="noStrike">
                  <a:solidFill>
                    <a:srgbClr val="000000"/>
                  </a:solidFill>
                  <a:latin typeface="Tahoma"/>
                </a:rPr>
                <a:t>&lt;number&gt;</a:t>
              </a:fld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395280" y="1268280"/>
            <a:ext cx="8748720" cy="5545440"/>
            <a:chOff x="395280" y="1268280"/>
            <a:chExt cx="8748720" cy="5545440"/>
          </a:xfrm>
        </p:grpSpPr>
        <p:pic>
          <p:nvPicPr>
            <p:cNvPr id="45" name="" descr=""/>
            <p:cNvPicPr/>
            <p:nvPr/>
          </p:nvPicPr>
          <p:blipFill>
            <a:blip r:embed="rId2"/>
            <a:stretch/>
          </p:blipFill>
          <p:spPr>
            <a:xfrm>
              <a:off x="395280" y="1268280"/>
              <a:ext cx="3600360" cy="165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340000" y="2349360"/>
              <a:ext cx="6804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643280" y="6597720"/>
              <a:ext cx="411984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900" spc="-1" strike="noStrike">
                  <a:solidFill>
                    <a:srgbClr val="000000"/>
                  </a:solidFill>
                  <a:latin typeface="Tahoma"/>
                </a:rPr>
                <a:t>© Copyright The Seasar Project and others 2004. all rights reserved.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643280" y="6597720"/>
              <a:ext cx="4500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748720" y="6454800"/>
              <a:ext cx="287280" cy="287280"/>
            </a:xfrm>
            <a:prstGeom prst="ellipse">
              <a:avLst/>
            </a:prstGeom>
            <a:solidFill>
              <a:srgbClr val="ff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のからさわぎ</a:t>
            </a:r>
            <a:br>
              <a:rPr sz="4400"/>
            </a:b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Ope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556000" y="436572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easar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2004.9.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What Is “Seasar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特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オープンソース（ライセンスは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SL1.1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純国産（メイン開発者はひがやすおさん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Pure Ja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ンテ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OP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フレームワー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呼び方は「しーさー」で沖縄の狛犬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(?)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のこと。ひがさんは沖縄出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目指すも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J2E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の解体と再構築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J2E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の美味しいところを手軽に利用！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「易しさ」 と「優しさ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’s His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歴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2001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前～ひがさんオリジナル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J2E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サーバ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JTA,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ネクションプーリングなどな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2002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初期版～スターロジック用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Tomcat,iBATIS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と組み合わせて、外国為替オンライントレーディングシステムで使用（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WEB+DB PRESS Vol.15,16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参照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2003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easar V1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～オールインワンの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J2E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サーバ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Flowlet,Rulet,Sqlet,Jetty,HSQLDB,GPSS,Eclips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プラグインなどが整備され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2004/4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easar V2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IoC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ンテナとして華麗に進化！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従来の機能を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ベースで再構築し、よりしなやかに強靭になった</a:t>
            </a:r>
            <a:br>
              <a:rPr sz="2400"/>
            </a:b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新しい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J2EE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開発スタイル「ダイコン時代」の幕開け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プロジェクトと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別名「ひがやすおと愉快な仲間たち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ミッショ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を盛り上げることを通じて、ソフトウェア開発の現場をより楽しく、より幸せにしていくこ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役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ひがさんのやる気を損ねない（笑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日々周辺の雑務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(SourceForge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のメンテなど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こまめな宴会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を知ってもらうためのマーケティン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担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特に何も決めていません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　皆さん、どんどん「自由に」何でも</a:t>
            </a:r>
            <a:br>
              <a:rPr sz="3200"/>
            </a:b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やっちゃってくださ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現在のコミッ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ひがさ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高井さん（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GroovyBuilder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ほそかわさん（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OpenAMF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あがたさん＆まさたかさん（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Kijimuna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きむらさん（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Struts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まるおさん（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Tapestry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おかざきさん（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Hibernate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ファミリ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コアプロダク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DIContain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S2AOP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AOP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アライアンスに準拠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S2Tx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（トランザクションの自動制御 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AP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サーバの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JTA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とコネクションプールを使うことも可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S2DBCP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（コネクションプーリング 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S2JDBC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Jakarta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DbUtils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みたいなもの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S2Dao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ORM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フレームワーク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S2Unit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（テストファーストのためのツール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周辺プロダク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S2GroovyBuilder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（設定ファイルを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Groovy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で記述できる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S2OpenAMF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Flash Remoting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）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Kijimuna(Seasar2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用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Eclipse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プラグイン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S2Hibern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S2Stru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S2Tapestr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今後の予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S2Remo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S2JS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We Go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200" spc="-1" strike="noStrike">
                <a:solidFill>
                  <a:srgbClr val="000000"/>
                </a:solidFill>
                <a:latin typeface="Arial"/>
              </a:rPr>
              <a:t>さぁ、からさわごう！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200" spc="-1" strike="noStrike">
                <a:solidFill>
                  <a:srgbClr val="000000"/>
                </a:solidFill>
                <a:latin typeface="Arial"/>
              </a:rPr>
              <a:t>合言葉は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200" spc="-1" strike="noStrike">
                <a:solidFill>
                  <a:srgbClr val="000000"/>
                </a:solidFill>
                <a:latin typeface="Arial"/>
              </a:rPr>
              <a:t>「もっと優しく、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200" spc="-1" strike="noStrike">
                <a:solidFill>
                  <a:srgbClr val="000000"/>
                </a:solidFill>
                <a:latin typeface="Arial"/>
              </a:rPr>
              <a:t>もっと易しく」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5T03:49:45Z</dcterms:created>
  <dc:creator>Masataka Kurihara</dc:creator>
  <dc:description/>
  <dc:language>en-US</dc:language>
  <cp:lastModifiedBy>higa</cp:lastModifiedBy>
  <dcterms:modified xsi:type="dcterms:W3CDTF">2004-09-09T02:23:24Z</dcterms:modified>
  <cp:revision>44</cp:revision>
  <dc:subject/>
  <dc:title>スライド 1</dc:title>
</cp:coreProperties>
</file>