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0C6C747-9683-45FF-BC7C-7592BBD238BF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9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お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版～スターロジック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4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新しい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開発スタイル「ダイコン時代」の幕開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別名「ひがやすおと愉快な仲間たち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ミッ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盛り上げることを通じて、ソフトウェア開発の現場をより楽しく、より幸せにしていく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役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がさんのやる気を損ねない（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々周辺の雑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ourceFo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ンテ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まめな宴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知ってもらうためのマーケティ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担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特に何も決めて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皆さん、どんどん「自由に」何で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やっちゃっ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コミッ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さ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高井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ほそかわ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あがたさん＆まさたか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むら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るお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Tapes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かざき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ア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Contai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AOP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ライアンスに準拠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x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トランザクションの自動制御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ーバ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コネクションプールを使うことも可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BC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コネクションプーリング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DB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akart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bUtil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みたいなもの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R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レームワーク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Unit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テストファーストのためのツール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周辺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設定ファイル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で記述でき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lash Remot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Kijimuna(Seasar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プラグイ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Hibern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Stru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apes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Remo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3:49:45Z</dcterms:created>
  <dc:creator>Masataka Kurihara</dc:creator>
  <dc:description/>
  <dc:language>en-US</dc:language>
  <cp:lastModifiedBy>higa</cp:lastModifiedBy>
  <dcterms:modified xsi:type="dcterms:W3CDTF">2004-09-09T02:23:24Z</dcterms:modified>
  <cp:revision>44</cp:revision>
  <dc:subject/>
  <dc:title>スライド 1</dc:title>
</cp:coreProperties>
</file>