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8E2E-76A7-4A32-A121-EDB0128FC6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7.17</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7-15T10:29:09Z</dcterms:modified>
  <cp:revision>39</cp:revision>
  <dc:subject/>
  <dc:title>スライド 1</dc:title>
</cp:coreProperties>
</file>