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EED12-1D32-43B4-A5E9-F8BE96CAEEF2}"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28:07Z</dcterms:modified>
  <cp:revision>14</cp:revision>
  <dc:subject/>
  <dc:title>スライド 1</dc:title>
</cp:coreProperties>
</file>