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B12-7D25-4B10-A700-DD2A3EC76D3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FAA5-C252-4290-8871-5C90F119709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7-15T10:28:44Z</dcterms:modified>
  <cp:revision>53</cp:revision>
  <dc:subject/>
  <dc:title>スライド 1</dc:title>
</cp:coreProperties>
</file>