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62E1-86A1-4732-ADAF-A9F4239B4F4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763-24D9-49CA-BE64-63A5D646812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29Z</dcterms:modified>
  <cp:revision>117</cp:revision>
  <dc:subject/>
  <dc:title>スライド 1</dc:title>
</cp:coreProperties>
</file>