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93B7-8F7C-4CEA-99CE-94ABDDFFD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397A-0C9C-4A35-AF9F-9383E431A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7F4F-8664-4DAB-BA27-C0FA5C223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9B06-001A-423B-A1D2-88B4737A4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ECC8-D35D-476C-A1F4-64183FF32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BE8A-A648-42BB-8707-719D63DCC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07DA-C01F-4E6B-83D1-C932239B7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AA8B-39B8-4E78-9EAD-EB8993AA2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1AE2-10D1-4136-BD82-2A7DAB5B5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9F22-F73C-4B62-BCCE-96C4D075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AB33-3873-415D-9BB3-CC32A737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B607-16C0-4574-B45A-15D9E5FD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00E5C-33AF-49F8-831D-D4D2413D64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フロー制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1480" y="1341360"/>
            <a:ext cx="122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使用中およびログ採取時は、バッファへ格納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フルになると、最古のデータから上書き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で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の中身を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すべて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クロ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）へ送信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データをすべてリングバッファとして保存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661000"/>
            <a:ext cx="3744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コマンド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ync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、同期されるのは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マクロ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信間の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から大量にパケットが送られてき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きは、データの取りこぼしが発生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1T13:09:57Z</dcterms:modified>
  <cp:revision>157</cp:revision>
  <dc:subject/>
  <dc:title>DDEのしくみ</dc:title>
</cp:coreProperties>
</file>