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1A60-588A-4E0E-9FBF-C3A2EEED5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6121-BEB5-41F0-B8B3-12D4D3140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4DFF-D09D-4D63-84E9-E6C1B89A8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7B09-E4E5-4525-9325-6AE2CDBE1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AE64-5058-43AE-9064-ADC9B5E77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7A17-75B5-4836-BB85-0D4A98A7E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545B-962C-4C7B-933F-64C53959D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A5CC-4F98-4C4F-9D8D-3AC5AEA7E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A6EF-1280-4C51-9EB4-B7C68EF2A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0DE6-3396-4D42-A42C-BF2573C9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0E5D-4467-4002-9668-CE946352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C033-7C7E-469C-8BD7-924F2D9A3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0CCF7-48FF-4D5C-AFCA-1200010AB8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バッファ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4936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 u="sng">
                <a:solidFill>
                  <a:srgbClr val="000000"/>
                </a:solidFill>
                <a:uFillTx/>
                <a:latin typeface="Arial"/>
              </a:rPr>
              <a:t>TComVar 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1052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2000" y="1052640"/>
            <a:ext cx="216072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0920" y="907920"/>
            <a:ext cx="1368360" cy="2017800"/>
            <a:chOff x="250920" y="907920"/>
            <a:chExt cx="1368360" cy="2017800"/>
          </a:xfrm>
        </p:grpSpPr>
        <p:sp>
          <p:nvSpPr>
            <p:cNvPr id="46" name=""/>
            <p:cNvSpPr/>
            <p:nvPr/>
          </p:nvSpPr>
          <p:spPr>
            <a:xfrm>
              <a:off x="250920" y="9079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0920" y="1197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0920" y="14842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0920" y="1773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0920" y="206064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920" y="234936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0920" y="263700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 flipV="1">
            <a:off x="1619280" y="1052640"/>
            <a:ext cx="1512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3068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空きあり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1052640"/>
            <a:ext cx="2160720" cy="129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1628640"/>
            <a:ext cx="1512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105264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76500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619280" y="184464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19280" y="1052640"/>
            <a:ext cx="151272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422100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5280" y="4076640"/>
            <a:ext cx="1368360" cy="2017800"/>
            <a:chOff x="395280" y="4076640"/>
            <a:chExt cx="1368360" cy="2017800"/>
          </a:xfrm>
        </p:grpSpPr>
        <p:sp>
          <p:nvSpPr>
            <p:cNvPr id="63" name=""/>
            <p:cNvSpPr/>
            <p:nvPr/>
          </p:nvSpPr>
          <p:spPr>
            <a:xfrm>
              <a:off x="395280" y="407664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5280" y="43657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5280" y="4653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5280" y="494208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5280" y="5229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5280" y="55180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5280" y="580572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 flipV="1">
            <a:off x="1763640" y="4220640"/>
            <a:ext cx="1513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48000" y="623736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フル状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221000"/>
            <a:ext cx="2160360" cy="187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4797360"/>
            <a:ext cx="1513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393372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763640" y="501336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763640" y="5516280"/>
            <a:ext cx="1513080" cy="14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516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2205000"/>
            <a:ext cx="2160720" cy="14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105264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5373720"/>
            <a:ext cx="2160360" cy="144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2108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1052640"/>
            <a:ext cx="215640" cy="1296720"/>
          </a:xfrm>
          <a:prstGeom prst="downArrow">
            <a:avLst>
              <a:gd name="adj1" fmla="val 50000"/>
              <a:gd name="adj2" fmla="val 1503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6360" y="14842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560920"/>
            <a:ext cx="216000" cy="604800"/>
          </a:xfrm>
          <a:prstGeom prst="downArrow">
            <a:avLst>
              <a:gd name="adj1" fmla="val 50000"/>
              <a:gd name="adj2" fmla="val 7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6360" y="57340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6165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645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08720" y="3933360"/>
            <a:ext cx="0" cy="251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12000" y="39337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3933720"/>
            <a:ext cx="0" cy="15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6720" y="2060640"/>
            <a:ext cx="2519280" cy="1584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リング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バッファフルの場合は最古の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から上書き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バッファ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共有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分が有効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データとな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採取とマクロ実行を同時に行う場合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同一値に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6:00:59Z</dcterms:modified>
  <cp:revision>114</cp:revision>
  <dc:subject/>
  <dc:title>DDEのしくみ</dc:title>
</cp:coreProperties>
</file>