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DACB-8C6A-4AAA-B40C-CC1AD287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A6CF-18A9-4B6B-AED3-C717CE38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A32C-5E74-44AA-B881-74FE012F6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5896-2439-4DF1-AA76-A306C4619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CF77-CC75-4CBB-AE0B-0F86098A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C5AC-1D3C-40E7-A430-9FF4C8FB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F4E3-5F56-4E44-9B11-0C92FBC0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794F-4288-4928-9EF7-40E281A5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8EB3-5B60-456E-98B0-4C7EC47C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4B64-8612-4D22-B464-6BA7C797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4507-9DA1-4D87-9079-45CD153A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217-CC87-48E8-893E-4BA0CBE2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2C3C-3611-4320-A861-D1AC0AA817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4197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419720"/>
            <a:ext cx="9144000" cy="2438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77240" y="4736160"/>
            <a:ext cx="1969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age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5410080" cy="1523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81280" y="5334120"/>
            <a:ext cx="685800" cy="91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4480" y="926280"/>
            <a:ext cx="1384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260160" y="1764360"/>
            <a:ext cx="1753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ector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583800" y="240480"/>
            <a:ext cx="1093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83480" y="926280"/>
            <a:ext cx="2780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ctorGraphicsCons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45800" y="2515320"/>
            <a:ext cx="2591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Vector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67160" y="358200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ixel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52680" y="3429000"/>
            <a:ext cx="5791320" cy="990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085280" y="4572720"/>
            <a:ext cx="2833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bstractVector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7080" y="5334120"/>
            <a:ext cx="4876920" cy="1523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504320" y="389808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ctor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4320" y="5944320"/>
            <a:ext cx="1845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I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2080" y="6096600"/>
            <a:ext cx="191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P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62680" y="6260400"/>
            <a:ext cx="195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PM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48480" y="6412680"/>
            <a:ext cx="195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N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24640" y="5650560"/>
            <a:ext cx="19958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30960" y="5792040"/>
            <a:ext cx="1945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02720" y="5944320"/>
            <a:ext cx="191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D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44240" y="6085800"/>
            <a:ext cx="17672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S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45720" y="6249240"/>
            <a:ext cx="19454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VG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12080" y="6401520"/>
            <a:ext cx="19713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46" idx="0"/>
            <a:endCxn id="48" idx="2"/>
          </p:cNvCxnSpPr>
          <p:nvPr/>
        </p:nvCxnSpPr>
        <p:spPr>
          <a:xfrm flipV="1" rot="16200000">
            <a:off x="3974760" y="764280"/>
            <a:ext cx="317880" cy="6480"/>
          </a:xfrm>
          <a:prstGeom prst="bentConnector3">
            <a:avLst>
              <a:gd name="adj1" fmla="val 50113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7" name=""/>
          <p:cNvCxnSpPr>
            <a:stCxn id="47" idx="0"/>
            <a:endCxn id="46" idx="2"/>
          </p:cNvCxnSpPr>
          <p:nvPr/>
        </p:nvCxnSpPr>
        <p:spPr>
          <a:xfrm rot="16200000">
            <a:off x="3902040" y="1529280"/>
            <a:ext cx="47016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50" idx="0"/>
            <a:endCxn id="47" idx="2"/>
          </p:cNvCxnSpPr>
          <p:nvPr/>
        </p:nvCxnSpPr>
        <p:spPr>
          <a:xfrm flipV="1" rot="16200000">
            <a:off x="3947760" y="2321280"/>
            <a:ext cx="383040" cy="5040"/>
          </a:xfrm>
          <a:prstGeom prst="bentConnector3">
            <a:avLst>
              <a:gd name="adj1" fmla="val 5004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7" idx="0"/>
            <a:endCxn id="49" idx="2"/>
          </p:cNvCxnSpPr>
          <p:nvPr/>
        </p:nvCxnSpPr>
        <p:spPr>
          <a:xfrm flipH="1" flipV="1" rot="5400000">
            <a:off x="5470200" y="-39240"/>
            <a:ext cx="470160" cy="3137400"/>
          </a:xfrm>
          <a:prstGeom prst="bentConnector5">
            <a:avLst>
              <a:gd name="adj1" fmla="val 51111"/>
              <a:gd name="adj2" fmla="val 41817"/>
              <a:gd name="adj3" fmla="val 49042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70" name=""/>
          <p:cNvCxnSpPr>
            <a:stCxn id="51" idx="0"/>
            <a:endCxn id="50" idx="2"/>
          </p:cNvCxnSpPr>
          <p:nvPr/>
        </p:nvCxnSpPr>
        <p:spPr>
          <a:xfrm flipH="1" flipV="1" rot="5400000">
            <a:off x="2603880" y="2044800"/>
            <a:ext cx="698760" cy="2376720"/>
          </a:xfrm>
          <a:prstGeom prst="bentConnector3">
            <a:avLst>
              <a:gd name="adj1" fmla="val 5005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0" idx="2"/>
          </p:cNvCxnSpPr>
          <p:nvPr/>
        </p:nvCxnSpPr>
        <p:spPr>
          <a:xfrm flipV="1" rot="16200000">
            <a:off x="4314600" y="2710440"/>
            <a:ext cx="1014840" cy="1361160"/>
          </a:xfrm>
          <a:prstGeom prst="bentConnector3">
            <a:avLst>
              <a:gd name="adj1" fmla="val 50035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43" idx="0"/>
            <a:endCxn id="51" idx="2"/>
          </p:cNvCxnSpPr>
          <p:nvPr/>
        </p:nvCxnSpPr>
        <p:spPr>
          <a:xfrm flipH="1" flipV="1" rot="5400000">
            <a:off x="1370520" y="4341600"/>
            <a:ext cx="786240" cy="3240"/>
          </a:xfrm>
          <a:prstGeom prst="bentConnector3">
            <a:avLst>
              <a:gd name="adj1" fmla="val 5002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7" idx="0"/>
            <a:endCxn id="43" idx="2"/>
          </p:cNvCxnSpPr>
          <p:nvPr/>
        </p:nvCxnSpPr>
        <p:spPr>
          <a:xfrm flipH="1" flipV="1" rot="5400000">
            <a:off x="1265760" y="5600520"/>
            <a:ext cx="992520" cy="720"/>
          </a:xfrm>
          <a:prstGeom prst="bentConnector3">
            <a:avLst>
              <a:gd name="adj1" fmla="val 50036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53" idx="0"/>
            <a:endCxn id="55" idx="2"/>
          </p:cNvCxnSpPr>
          <p:nvPr/>
        </p:nvCxnSpPr>
        <p:spPr>
          <a:xfrm rot="16200000">
            <a:off x="5349240" y="4419360"/>
            <a:ext cx="30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61" idx="0"/>
            <a:endCxn id="53" idx="2"/>
          </p:cNvCxnSpPr>
          <p:nvPr/>
        </p:nvCxnSpPr>
        <p:spPr>
          <a:xfrm flipV="1" rot="16200000">
            <a:off x="5077440" y="5365800"/>
            <a:ext cx="851400" cy="1800"/>
          </a:xfrm>
          <a:prstGeom prst="bentConnector3">
            <a:avLst>
              <a:gd name="adj1" fmla="val 5004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6" name=""/>
          <p:cNvSpPr/>
          <p:nvPr/>
        </p:nvSpPr>
        <p:spPr>
          <a:xfrm>
            <a:off x="78840" y="763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aw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94720" y="533412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614640" y="3429000"/>
            <a:ext cx="24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32200" y="90360"/>
            <a:ext cx="252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graphics2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741360" y="3886920"/>
            <a:ext cx="22334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ultiPage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stCxn id="62" idx="0"/>
            <a:endCxn id="80" idx="2"/>
          </p:cNvCxnSpPr>
          <p:nvPr/>
        </p:nvCxnSpPr>
        <p:spPr>
          <a:xfrm flipH="1" flipV="1" rot="5400000">
            <a:off x="6165720" y="4251960"/>
            <a:ext cx="1689480" cy="1695960"/>
          </a:xfrm>
          <a:prstGeom prst="bentConnector3">
            <a:avLst>
              <a:gd name="adj1" fmla="val 5002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82" name=""/>
          <p:cNvCxnSpPr>
            <a:stCxn id="63" idx="0"/>
            <a:endCxn id="80" idx="2"/>
          </p:cNvCxnSpPr>
          <p:nvPr/>
        </p:nvCxnSpPr>
        <p:spPr>
          <a:xfrm flipH="1" flipV="1" rot="5400000">
            <a:off x="6377400" y="4605120"/>
            <a:ext cx="1830960" cy="11307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19:37:49Z</dcterms:modified>
  <cp:revision>28</cp:revision>
  <dc:subject/>
  <dc:title>Slide 1</dc:title>
</cp:coreProperties>
</file>