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7365-1F38-4A3C-BFBE-36BAA6FB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423D-4526-4C6C-8454-5198D75C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2352-7298-4EB6-ACD8-A5CDEC728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85DA-BA92-4474-8BB7-2AC129C1E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33C-231E-45AD-AE35-28ECD3330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4DCA-AE41-4E5D-BA69-D8F6F6EC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BD9E-5AB6-4B7A-8A3C-D93AB55CD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F883-038E-4561-B7FA-3EA660FED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9F02-EBB9-4B36-8581-11796435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E71A-927C-4971-A6F0-3F94BFFD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147-10DC-49C9-B7C8-8808B955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6B1-D6FB-461F-A9D3-0A57B8845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CD85-2982-4BB6-B8E5-F090936334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5486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3124080" cy="2057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320" y="342900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.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20" y="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486400"/>
            <a:ext cx="9144000" cy="13716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0" y="548640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682360" y="21646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uadToCubic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95800" y="21646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bicToQuad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4840" y="991440"/>
            <a:ext cx="26679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7760" y="229320"/>
            <a:ext cx="182952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19840" y="5715720"/>
            <a:ext cx="2517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9800" y="4583880"/>
            <a:ext cx="2626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olyline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9320" y="4355280"/>
            <a:ext cx="2276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arString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42840" y="6020640"/>
            <a:ext cx="3552120" cy="661680"/>
            <a:chOff x="1842840" y="6020640"/>
            <a:chExt cx="3552120" cy="661680"/>
          </a:xfrm>
        </p:grpSpPr>
        <p:sp>
          <p:nvSpPr>
            <p:cNvPr id="55" name=""/>
            <p:cNvSpPr/>
            <p:nvPr/>
          </p:nvSpPr>
          <p:spPr>
            <a:xfrm>
              <a:off x="1842840" y="6020640"/>
              <a:ext cx="246672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MF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52680" y="6172920"/>
              <a:ext cx="228852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954160" y="6314040"/>
              <a:ext cx="244080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DFPathConstruc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8" name=""/>
          <p:cNvCxnSpPr>
            <a:stCxn id="51" idx="0"/>
            <a:endCxn id="52" idx="2"/>
          </p:cNvCxnSpPr>
          <p:nvPr/>
        </p:nvCxnSpPr>
        <p:spPr>
          <a:xfrm flipH="1" flipV="1" rot="5400000">
            <a:off x="5898600" y="5331600"/>
            <a:ext cx="763920" cy="504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52" idx="0"/>
            <a:endCxn id="60" idx="2"/>
          </p:cNvCxnSpPr>
          <p:nvPr/>
        </p:nvCxnSpPr>
        <p:spPr>
          <a:xfrm flipH="1" flipV="1" rot="5400000">
            <a:off x="6035400" y="4331160"/>
            <a:ext cx="500760" cy="5400"/>
          </a:xfrm>
          <a:prstGeom prst="bentConnector3">
            <a:avLst>
              <a:gd name="adj1" fmla="val 5007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9" idx="2"/>
          </p:cNvCxnSpPr>
          <p:nvPr/>
        </p:nvCxnSpPr>
        <p:spPr>
          <a:xfrm flipV="1" rot="16200000">
            <a:off x="6387120" y="741240"/>
            <a:ext cx="805320" cy="204228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50" idx="2"/>
          </p:cNvCxnSpPr>
          <p:nvPr/>
        </p:nvCxnSpPr>
        <p:spPr>
          <a:xfrm flipV="1" rot="16200000">
            <a:off x="5568480" y="791280"/>
            <a:ext cx="394200" cy="6480"/>
          </a:xfrm>
          <a:prstGeom prst="bentConnector3">
            <a:avLst>
              <a:gd name="adj1" fmla="val 5009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sp>
        <p:nvSpPr>
          <p:cNvPr id="63" name=""/>
          <p:cNvSpPr/>
          <p:nvPr/>
        </p:nvSpPr>
        <p:spPr>
          <a:xfrm>
            <a:off x="6567120" y="6325200"/>
            <a:ext cx="2492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6" idx="0"/>
            <a:endCxn id="47" idx="2"/>
          </p:cNvCxnSpPr>
          <p:nvPr/>
        </p:nvCxnSpPr>
        <p:spPr>
          <a:xfrm flipH="1" flipV="1" rot="5400000">
            <a:off x="1913760" y="4489920"/>
            <a:ext cx="3366000" cy="720"/>
          </a:xfrm>
          <a:prstGeom prst="bentConnector3">
            <a:avLst>
              <a:gd name="adj1" fmla="val 5000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5" name=""/>
          <p:cNvCxnSpPr>
            <a:stCxn id="47" idx="0"/>
            <a:endCxn id="49" idx="2"/>
          </p:cNvCxnSpPr>
          <p:nvPr/>
        </p:nvCxnSpPr>
        <p:spPr>
          <a:xfrm flipH="1" flipV="1" rot="5400000">
            <a:off x="4280400" y="676440"/>
            <a:ext cx="805320" cy="217188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6" name=""/>
          <p:cNvCxnSpPr>
            <a:stCxn id="63" idx="0"/>
            <a:endCxn id="48" idx="2"/>
          </p:cNvCxnSpPr>
          <p:nvPr/>
        </p:nvCxnSpPr>
        <p:spPr>
          <a:xfrm flipV="1" rot="16200000">
            <a:off x="6053040" y="4564800"/>
            <a:ext cx="3518280" cy="3240"/>
          </a:xfrm>
          <a:prstGeom prst="bentConnector3">
            <a:avLst>
              <a:gd name="adj1" fmla="val 5001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7" name=""/>
          <p:cNvCxnSpPr>
            <a:stCxn id="60" idx="0"/>
            <a:endCxn id="47" idx="2"/>
          </p:cNvCxnSpPr>
          <p:nvPr/>
        </p:nvCxnSpPr>
        <p:spPr>
          <a:xfrm flipV="1" rot="16200000">
            <a:off x="4625640" y="1778400"/>
            <a:ext cx="633960" cy="2691360"/>
          </a:xfrm>
          <a:prstGeom prst="bentConnector3">
            <a:avLst>
              <a:gd name="adj1" fmla="val 5005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53" idx="0"/>
            <a:endCxn id="47" idx="2"/>
          </p:cNvCxnSpPr>
          <p:nvPr/>
        </p:nvCxnSpPr>
        <p:spPr>
          <a:xfrm flipH="1" flipV="1" rot="5400000">
            <a:off x="1753200" y="2511360"/>
            <a:ext cx="1548360" cy="214020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0" name=""/>
          <p:cNvSpPr/>
          <p:nvPr/>
        </p:nvSpPr>
        <p:spPr>
          <a:xfrm>
            <a:off x="5373360" y="3440880"/>
            <a:ext cx="182952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ubicToLine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th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35Z</dcterms:modified>
  <cp:revision>26</cp:revision>
  <dc:subject/>
  <dc:title>Slide 1</dc:title>
</cp:coreProperties>
</file>