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6A931-5DD7-47BB-9335-B4F7BFDF5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68D-5347-46C7-87C8-1D7189E0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BC1-E343-4422-9385-129738017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97F-D63C-4D95-9E8F-CA6C9BC8F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E047-34D6-4A88-97D3-8C9E56E8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E67B-C8B7-440A-A2F2-64410DFC6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566-8685-499A-8C0D-28A27E26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D30C-7178-42E3-A6CD-D494B3B06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6EA6B-DE8F-45C4-86B8-48FDED15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FBB0-6458-41E8-821D-7A9D4D318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29F7-EBD3-4B5C-ACF3-C59B770F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310-8B7B-4729-9D20-B0849413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611E4-7EAE-4E16-910A-98CAD7AA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3581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581280"/>
            <a:ext cx="9144000" cy="3276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26760" y="4888800"/>
            <a:ext cx="1579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099920" y="5639400"/>
            <a:ext cx="17323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62000" y="2743920"/>
            <a:ext cx="12078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1280" y="4050360"/>
            <a:ext cx="209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360" y="626040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63440" y="5650560"/>
            <a:ext cx="2911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EmbedderType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52240" y="4877640"/>
            <a:ext cx="2146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DF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4080" y="2743920"/>
            <a:ext cx="2323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EmbedderTyp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76480" y="1688400"/>
            <a:ext cx="16894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Embed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8040" y="4039200"/>
            <a:ext cx="2024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368000" y="697680"/>
            <a:ext cx="1448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ontInclu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51" idx="0"/>
            <a:endCxn id="53" idx="2"/>
          </p:cNvCxnSpPr>
          <p:nvPr/>
        </p:nvCxnSpPr>
        <p:spPr>
          <a:xfrm flipV="1" rot="16200000">
            <a:off x="3095640" y="62640"/>
            <a:ext cx="622800" cy="2629080"/>
          </a:xfrm>
          <a:prstGeom prst="bentConnector3">
            <a:avLst>
              <a:gd name="adj1" fmla="val 5002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50" idx="0"/>
            <a:endCxn id="51" idx="2"/>
          </p:cNvCxnSpPr>
          <p:nvPr/>
        </p:nvCxnSpPr>
        <p:spPr>
          <a:xfrm flipH="1" flipV="1" rot="5400000">
            <a:off x="3529440" y="1552680"/>
            <a:ext cx="687600" cy="1695600"/>
          </a:xfrm>
          <a:prstGeom prst="bentConnector3">
            <a:avLst>
              <a:gd name="adj1" fmla="val 5002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47" idx="0"/>
            <a:endCxn id="50" idx="2"/>
          </p:cNvCxnSpPr>
          <p:nvPr/>
        </p:nvCxnSpPr>
        <p:spPr>
          <a:xfrm flipH="1" flipV="1" rot="5400000">
            <a:off x="765720" y="4000320"/>
            <a:ext cx="3148560" cy="1371960"/>
          </a:xfrm>
          <a:prstGeom prst="bentConnector3">
            <a:avLst>
              <a:gd name="adj1" fmla="val 5000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7" name=""/>
          <p:cNvCxnSpPr>
            <a:stCxn id="43" idx="0"/>
            <a:endCxn id="45" idx="2"/>
          </p:cNvCxnSpPr>
          <p:nvPr/>
        </p:nvCxnSpPr>
        <p:spPr>
          <a:xfrm flipH="1" flipV="1" rot="5400000">
            <a:off x="6502680" y="3425760"/>
            <a:ext cx="1776960" cy="1149480"/>
          </a:xfrm>
          <a:prstGeom prst="bentConnector3">
            <a:avLst>
              <a:gd name="adj1" fmla="val 5001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8" name=""/>
          <p:cNvCxnSpPr>
            <a:stCxn id="44" idx="0"/>
            <a:endCxn id="45" idx="2"/>
          </p:cNvCxnSpPr>
          <p:nvPr/>
        </p:nvCxnSpPr>
        <p:spPr>
          <a:xfrm flipV="1" rot="16200000">
            <a:off x="6702120" y="4375440"/>
            <a:ext cx="2527560" cy="720"/>
          </a:xfrm>
          <a:prstGeom prst="bentConnector3">
            <a:avLst>
              <a:gd name="adj1" fmla="val 5001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9" idx="0"/>
            <a:endCxn id="50" idx="2"/>
          </p:cNvCxnSpPr>
          <p:nvPr/>
        </p:nvCxnSpPr>
        <p:spPr>
          <a:xfrm flipV="1" rot="16200000">
            <a:off x="2342880" y="3795120"/>
            <a:ext cx="1765800" cy="399960"/>
          </a:xfrm>
          <a:prstGeom prst="bentConnector3">
            <a:avLst>
              <a:gd name="adj1" fmla="val 50020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8" idx="0"/>
            <a:endCxn id="49" idx="2"/>
          </p:cNvCxnSpPr>
          <p:nvPr/>
        </p:nvCxnSpPr>
        <p:spPr>
          <a:xfrm flipH="1" flipV="1" rot="5400000">
            <a:off x="3219840" y="5445360"/>
            <a:ext cx="405000" cy="6480"/>
          </a:xfrm>
          <a:prstGeom prst="bentConnector3">
            <a:avLst>
              <a:gd name="adj1" fmla="val 50088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6" idx="0"/>
            <a:endCxn id="51" idx="2"/>
          </p:cNvCxnSpPr>
          <p:nvPr/>
        </p:nvCxnSpPr>
        <p:spPr>
          <a:xfrm rot="16200000">
            <a:off x="3724200" y="3053520"/>
            <a:ext cx="199404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52" idx="0"/>
            <a:endCxn id="53" idx="2"/>
          </p:cNvCxnSpPr>
          <p:nvPr/>
        </p:nvCxnSpPr>
        <p:spPr>
          <a:xfrm flipH="1" flipV="1" rot="5400000">
            <a:off x="189360" y="2136600"/>
            <a:ext cx="2973600" cy="832320"/>
          </a:xfrm>
          <a:prstGeom prst="bentConnector3">
            <a:avLst>
              <a:gd name="adj1" fmla="val 5000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3" name=""/>
          <p:cNvSpPr/>
          <p:nvPr/>
        </p:nvSpPr>
        <p:spPr>
          <a:xfrm>
            <a:off x="6710760" y="62485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3160" y="15228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.f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21Z</dcterms:modified>
  <cp:revision>26</cp:revision>
  <dc:subject/>
  <dc:title>Slide 1</dc:title>
</cp:coreProperties>
</file>