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6AAE-0184-4813-A076-0A43B2190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78100-F054-4976-A7C7-99AA36F8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37C3-4F4D-4FE6-A7E8-90A57457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D9B8-034A-48A8-8F12-1FAA829E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E72-0C7A-4287-B5C1-8FD3BE38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437-CEC4-4426-B54D-7145D7DC0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418-C361-42BD-935C-B7158ABF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0D86-58FB-4CC6-836A-AC93CD80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CFA-A60F-4C9D-AFCE-ABBA34EA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0A06-C720-4FFB-A674-29DB07C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5934-AA88-47E3-91E6-43B2E850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67E-EA9E-4548-BE71-6E81EFEC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F39E9-F7B2-4376-B0E0-C7714C952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457200" y="1027080"/>
            <a:ext cx="8303400" cy="4763880"/>
            <a:chOff x="457200" y="1027080"/>
            <a:chExt cx="8303400" cy="4763880"/>
          </a:xfrm>
        </p:grpSpPr>
        <p:sp>
          <p:nvSpPr>
            <p:cNvPr id="43" name=""/>
            <p:cNvSpPr/>
            <p:nvPr/>
          </p:nvSpPr>
          <p:spPr>
            <a:xfrm>
              <a:off x="3304800" y="5180040"/>
              <a:ext cx="5455800" cy="61092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" name=""/>
            <p:cNvCxnSpPr>
              <a:stCxn id="45" idx="2"/>
              <a:endCxn id="46" idx="1"/>
            </p:cNvCxnSpPr>
            <p:nvPr/>
          </p:nvCxnSpPr>
          <p:spPr>
            <a:xfrm flipH="1" rot="16200000">
              <a:off x="2306880" y="1401480"/>
              <a:ext cx="334800" cy="1661760"/>
            </a:xfrm>
            <a:prstGeom prst="bentConnector2">
              <a:avLst/>
            </a:prstGeom>
            <a:ln w="2556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7" name=""/>
            <p:cNvSpPr/>
            <p:nvPr/>
          </p:nvSpPr>
          <p:spPr>
            <a:xfrm>
              <a:off x="3304800" y="4332240"/>
              <a:ext cx="5455800" cy="610200"/>
            </a:xfrm>
            <a:prstGeom prst="rect">
              <a:avLst/>
            </a:prstGeom>
            <a:solidFill>
              <a:srgbClr val="008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IO strea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304800" y="2806920"/>
              <a:ext cx="5455800" cy="1423800"/>
            </a:xfrm>
            <a:prstGeom prst="rect">
              <a:avLst/>
            </a:prstGeom>
            <a:solidFill>
              <a:srgbClr val="ff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reeHEP Graphics IO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low-level format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(CGM, EMF, PDF and SWF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04800" y="2094840"/>
              <a:ext cx="5455800" cy="61020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 VectorGraphic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57200" y="1027080"/>
              <a:ext cx="2372760" cy="1038240"/>
            </a:xfrm>
            <a:prstGeom prst="rect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eeHEP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xportDialo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304800" y="1027080"/>
              <a:ext cx="5455800" cy="610200"/>
            </a:xfrm>
            <a:prstGeom prst="rect">
              <a:avLst/>
            </a:prstGeom>
            <a:solidFill>
              <a:srgbClr val="0000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Java Graphics2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01:28:06Z</dcterms:created>
  <dc:creator>duns</dc:creator>
  <dc:description/>
  <dc:language>en-US</dc:language>
  <cp:lastModifiedBy>duns</cp:lastModifiedBy>
  <dcterms:modified xsi:type="dcterms:W3CDTF">2003-03-22T20:03:58Z</dcterms:modified>
  <cp:revision>27</cp:revision>
  <dc:subject/>
  <dc:title>Slide 1</dc:title>
</cp:coreProperties>
</file>