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DAF5-3389-4541-A1D1-171EF9F1E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BC58-BE1A-414D-B8A9-3A404832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4F22-D954-4BBE-A0A5-C62AF8212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DF1D-8FBA-4B2D-BCDB-8F81844AC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8E06-236D-4E88-AD92-BC2C1B40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0CCB-8A96-4EBE-9341-6D30BC3CE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90B8-047C-4D45-AEA4-C83CFA81E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804D-216B-49B5-9D50-6ACD76D2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CCD4-ACDD-41C9-8AEB-A17027E1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2A3E-58BC-472D-9A13-F6AF6EA9A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56A7-75D9-4517-9710-000837D8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13B5-1C28-409E-8033-DAD60E893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A3BF8-96F1-4B0F-B5B6-23AD3A450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523880"/>
            <a:ext cx="9144000" cy="33530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8840" y="763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aw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320" y="152388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876920"/>
            <a:ext cx="9144000" cy="19810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19320" y="5258520"/>
            <a:ext cx="2396880" cy="520920"/>
            <a:chOff x="319320" y="5258520"/>
            <a:chExt cx="2396880" cy="520920"/>
          </a:xfrm>
        </p:grpSpPr>
        <p:sp>
          <p:nvSpPr>
            <p:cNvPr id="47" name=""/>
            <p:cNvSpPr/>
            <p:nvPr/>
          </p:nvSpPr>
          <p:spPr>
            <a:xfrm>
              <a:off x="319320" y="5258520"/>
              <a:ext cx="1742760" cy="3682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STagHand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95240" y="5411160"/>
              <a:ext cx="1920960" cy="368280"/>
            </a:xfrm>
            <a:prstGeom prst="rect">
              <a:avLst/>
            </a:prstGeom>
            <a:solidFill>
              <a:srgbClr val="ff99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VGTagHandl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1767240" y="3974400"/>
            <a:ext cx="2288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icTag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1600" y="2145600"/>
            <a:ext cx="1438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H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144920" y="2123280"/>
            <a:ext cx="12992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t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405560" y="240480"/>
            <a:ext cx="7779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775600" y="2145600"/>
            <a:ext cx="1249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St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>
            <a:stCxn id="47" idx="0"/>
            <a:endCxn id="50" idx="2"/>
          </p:cNvCxnSpPr>
          <p:nvPr/>
        </p:nvCxnSpPr>
        <p:spPr>
          <a:xfrm rot="16200000">
            <a:off x="-181800" y="3886200"/>
            <a:ext cx="274500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5" name=""/>
          <p:cNvCxnSpPr>
            <a:stCxn id="49" idx="0"/>
            <a:endCxn id="50" idx="2"/>
          </p:cNvCxnSpPr>
          <p:nvPr/>
        </p:nvCxnSpPr>
        <p:spPr>
          <a:xfrm flipV="1" rot="16200000">
            <a:off x="1320840" y="2383560"/>
            <a:ext cx="1460880" cy="1721160"/>
          </a:xfrm>
          <a:prstGeom prst="bentConnector3">
            <a:avLst>
              <a:gd name="adj1" fmla="val 5001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6" name=""/>
          <p:cNvCxnSpPr>
            <a:stCxn id="51" idx="0"/>
            <a:endCxn id="52" idx="2"/>
          </p:cNvCxnSpPr>
          <p:nvPr/>
        </p:nvCxnSpPr>
        <p:spPr>
          <a:xfrm rot="16200000">
            <a:off x="7037280" y="1365840"/>
            <a:ext cx="151488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57" name=""/>
          <p:cNvSpPr/>
          <p:nvPr/>
        </p:nvSpPr>
        <p:spPr>
          <a:xfrm>
            <a:off x="4966920" y="2134440"/>
            <a:ext cx="16923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ymbolSh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80200" y="240480"/>
            <a:ext cx="866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57" idx="0"/>
            <a:endCxn id="58" idx="2"/>
          </p:cNvCxnSpPr>
          <p:nvPr/>
        </p:nvCxnSpPr>
        <p:spPr>
          <a:xfrm flipH="1" flipV="1" rot="5400000">
            <a:off x="5050080" y="1371600"/>
            <a:ext cx="1526040" cy="720"/>
          </a:xfrm>
          <a:prstGeom prst="bentConnector3">
            <a:avLst>
              <a:gd name="adj1" fmla="val 5002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60" name=""/>
          <p:cNvSpPr/>
          <p:nvPr/>
        </p:nvSpPr>
        <p:spPr>
          <a:xfrm>
            <a:off x="6894720" y="487692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1:28:06Z</dcterms:created>
  <dc:creator>duns</dc:creator>
  <dc:description/>
  <dc:language>en-US</dc:language>
  <cp:lastModifiedBy>duns</cp:lastModifiedBy>
  <dcterms:modified xsi:type="dcterms:W3CDTF">2003-03-22T01:18:47Z</dcterms:modified>
  <cp:revision>26</cp:revision>
  <dc:subject/>
  <dc:title>Slide 1</dc:title>
</cp:coreProperties>
</file>