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7195C-897A-44EF-9812-547B324A2F1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4FD-84CB-4927-A94D-FC4E8E03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A56-7F2B-4F67-ADAC-EFA8C540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0E3A-A6B0-4BF4-8579-D3E1BA5C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786-EEF1-416A-8EA4-8424C2E7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5783-9DD3-44C9-8900-A7D84B77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FC51-9225-43D7-BB67-AFCAFAAB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85A0-D2AE-48C5-B61A-A056DDC5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0D8A-0670-41D6-8E8A-904D4BDB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F9D2-C58C-403B-9F86-4A15D4AC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97B1-52D4-43A9-894A-82765C88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6F31-E66C-46AA-BDBC-39F0B461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2E9-4591-42BF-A1CC-55D652BD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5C78-0FD3-4687-AE86-B905FD08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8F8E-9366-4678-A16A-032024FE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256F-E442-4B61-B21D-D87C3B4D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A35F-6D56-4F3E-878B-3D4781FC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DE18-E231-4210-ADC3-0F992F84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AC4-B358-45C6-9BFB-D187E0DD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5BA6-5994-496E-BD4F-E0C11C72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4BF-D190-463F-A9C3-D3AC5D24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58C-EE37-4F76-B19D-65BD2F58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60D-C0A7-4BD4-9272-7021442E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410C-2AA1-4B69-B79D-618E668A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4D3-E128-47BD-9ED3-5CFA9D56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0452F-9E85-45D0-BB14-65CE01E0E91D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8497972-52E7-4F9F-AD68-17987552637D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     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OF 2006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03F2-1636-480F-AB1B-D9E24D093C8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EFB-139E-456A-9533-032EDFB78B5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ava / C#.NET / JavaScript / VB.NET / PHP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A6C-66E4-42EC-9652-4A25D2463F7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５プログラミング言語に対応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新たに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B.NET , PHP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#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Scrip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B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は多プログラミング言語対応時代に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A80-69F9-42D7-894F-47D12B33673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ce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 Anywhe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E339-2A7E-4F44-9597-9328E0AABA6B}" type="slidenum">
              <a:t>62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6-11-15T06:35:53Z</dcterms:modified>
  <cp:revision>313</cp:revision>
  <dc:subject/>
  <dc:title>blanco Framework ご紹介</dc:title>
</cp:coreProperties>
</file>