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5AD37-98BE-4917-9AA5-2B7166E8556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034-53FF-42A9-BA63-CDB9FBE2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7F2-4A07-4BB2-930E-A14F52F8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A2A-DBF7-4076-9FCE-5D7A59D2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7DC-59E6-47FC-99ED-F31847F4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E95E-9940-4622-9FF0-34AD9E0D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E72F-3C08-4CBD-B2EA-ADD75DA6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ED6C-6C37-48B3-87EC-9D0627FB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43B1-89A5-4F7D-ACD5-99206279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CF22-C177-496E-B186-8C3E3D3A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1C9F-B150-43C6-87C8-1378BD2A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E318-9B45-4E05-9D29-B2A1E3FA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624-AE50-4C06-9304-752E745D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6F81-8706-4FC1-9B4C-A6646E49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0C58-4DA0-4AE5-8E1B-3D65705D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2256-CCB5-4C70-A5B4-C829517B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5016-802A-4843-A0AA-DD0B052A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DAED-C9CD-4F2F-81CB-C01A9979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B74-6006-49FE-9A31-651A4498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EB0-E363-4F0C-A8A1-2232C80C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DA0-B80D-44D7-8FBA-60304694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C99-F552-4F0F-886F-4CC96097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C3A-F9B6-4BDE-B582-82CF9835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174-9852-4B5C-A979-452FB719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03C-ED98-4FAA-AFC0-710D6A40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4FC16-B838-429A-A8D2-650E9A371C17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EA827C4-8298-4FE5-BCF5-127C88E1997E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054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ju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西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研究会 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67C7-DF0B-4665-8A1A-07C0912C03A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設計理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よりどこ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風味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が欲し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4760" y="144360"/>
            <a:ext cx="47196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特に意識している「定理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スモール・イズ・ビューティフル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いものは美し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一つのプログラムには一つのことをうまくやらせ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早く試作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効率より移植性を優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フトウェアを梃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て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使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過度の対話的インタフェースを避け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べてのプログラムをフィルタとして設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モール・イズ・ビューティフル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小さいものは美しい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シンプ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オブジェクト指向を使わな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ぐに使うことが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 , tail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コマンドなどを参考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自動生成されたソースコードの実行時ライブラリを不要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2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一つのプログラムには一つのことをうまくやらせ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機能を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l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を見ただけで仕様が連想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各プロダクトは互いに疎結合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できるだけ早く試作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にかく試作してみ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4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効率より移植性を優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複数プログラミング言語のソースコード自動生成を実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最初は リファレンス実装を実現してい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6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フトウェアを梃子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てこ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して使う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ユーザが指定する必要のある項目を極力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梃子の原理により、必要な入力項目を自動収集してしま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blancoDb: JDB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ライバ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を試し打ち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のメタ情報をデータベースから取得する。検索結果の列名や型情報をメタ情報から取得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Objec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やマッピングのようなことも自動収集で済ませてしまう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8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過度の対話的インタフェースを避け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che Ant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または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による「寡黙な」インタフェー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なプロダクトの集合体による開発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9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すべてのプログラムをフィルタとして設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ィルタ処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バッチ処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実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形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*.xls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に変換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: 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からソースコードを自動生成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49D-BBF7-4218-BDFC-A8FA236B9D7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「さらなる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0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考え方」か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部分の総和は全体よりも大き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パーセントの解を目指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劣るほうが優れてい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具体的な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ロダクト群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マッピングという考え方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E86-0C27-4A5B-BE24-8807F0BAAE5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CF0-1278-4416-8B48-69861B5C338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35002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3357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149720"/>
            <a:ext cx="799308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rc 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編集不要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ﾄﾘｯｸ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F04D-4863-4C5E-9EB1-89444434E8E8}" type="slidenum">
              <a:t>73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8:50:39Z</dcterms:modified>
  <cp:revision>465</cp:revision>
  <dc:subject/>
  <dc:title>blanco Framework ご紹介</dc:title>
</cp:coreProperties>
</file>