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735600" cy="98661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6160"/>
              <a:gd name="textAreaBottom" fmla="*/ 9865800 h 9866160"/>
            </a:gdLst>
            <a:ahLst/>
            <a:rect l="textAreaLeft" t="textAreaTop" r="textAreaRight" b="textAreaBottom"/>
            <a:pathLst>
              <a:path w="21600" h="31639">
                <a:moveTo>
                  <a:pt x="5" y="0"/>
                </a:moveTo>
                <a:arcTo wR="5" hR="5" stAng="16200000" swAng="-5400000"/>
                <a:lnTo>
                  <a:pt x="0" y="31634"/>
                </a:lnTo>
                <a:arcTo wR="5" hR="5" stAng="10800000" swAng="-5400000"/>
                <a:lnTo>
                  <a:pt x="21595" y="316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735600" cy="98661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6160"/>
              <a:gd name="textAreaBottom" fmla="*/ 9865800 h 9866160"/>
            </a:gdLst>
            <a:ahLst/>
            <a:rect l="textAreaLeft" t="textAreaTop" r="textAreaRight" b="textAreaBottom"/>
            <a:pathLst>
              <a:path w="21600" h="31639">
                <a:moveTo>
                  <a:pt x="5" y="0"/>
                </a:moveTo>
                <a:arcTo wR="5" hR="5" stAng="16200000" swAng="-5400000"/>
                <a:lnTo>
                  <a:pt x="0" y="31634"/>
                </a:lnTo>
                <a:arcTo wR="5" hR="5" stAng="10800000" swAng="-5400000"/>
                <a:lnTo>
                  <a:pt x="21595" y="316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735600" cy="98661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6160"/>
              <a:gd name="textAreaBottom" fmla="*/ 9865800 h 9866160"/>
            </a:gdLst>
            <a:ahLst/>
            <a:rect l="textAreaLeft" t="textAreaTop" r="textAreaRight" b="textAreaBottom"/>
            <a:pathLst>
              <a:path w="21600" h="31639">
                <a:moveTo>
                  <a:pt x="5" y="0"/>
                </a:moveTo>
                <a:arcTo wR="5" hR="5" stAng="16200000" swAng="-5400000"/>
                <a:lnTo>
                  <a:pt x="0" y="31634"/>
                </a:lnTo>
                <a:arcTo wR="5" hR="5" stAng="10800000" swAng="-5400000"/>
                <a:lnTo>
                  <a:pt x="21595" y="316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2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899640" y="73944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丸ｺﾞｼｯｸM-PRO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3"/>
          </p:nvPr>
        </p:nvSpPr>
        <p:spPr>
          <a:xfrm>
            <a:off x="0" y="9371160"/>
            <a:ext cx="2914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4"/>
          </p:nvPr>
        </p:nvSpPr>
        <p:spPr>
          <a:xfrm>
            <a:off x="3816360" y="9371160"/>
            <a:ext cx="2914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400BE-4FD5-4A28-9829-3FD73633B8F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BA973-1AF3-418E-BA52-0E14D93A00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69010-FCDB-4EA7-B7A6-9FBCB36F80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4B718-D51B-49F1-BE60-4E0CD46622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8700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6468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8700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6468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72493-F8A8-4FB7-A714-DA0475BC43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050920" y="2276280"/>
            <a:ext cx="5486400" cy="77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881A5-3F47-4E4E-B0D4-9C9A18530C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8700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6468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20932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8700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6468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1DC6E-A9E0-4091-BD95-D5C04AEC5E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D9658-0F4C-4748-9E4E-C69A469FEC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232F7-A13B-4DDF-BDE4-9FA1F29296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050920" y="2276280"/>
            <a:ext cx="5486400" cy="77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47F57-EC76-46B2-9DD5-B88DA1281C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BBC5F-13EC-42D8-8356-9491F2E948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0F057-7E59-482D-8170-DE6F360550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0070F-3945-4EEB-ABAC-18CE30B79F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457200" cy="6553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0"/>
            <a:ext cx="7315200" cy="304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2" marL="11430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3" marL="16002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4" marL="20574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P </a:t>
            </a:r>
            <a:fld id="{FB6D9A6D-1ADB-44AF-ADA2-5100F2197C8C}" type="slidenum"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04920"/>
            <a:ext cx="609588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33920" y="6553080"/>
            <a:ext cx="5410080" cy="304920"/>
          </a:xfrm>
          <a:prstGeom prst="rect">
            <a:avLst/>
          </a:prstGeom>
          <a:gradFill rotWithShape="0">
            <a:gsLst>
              <a:gs pos="0">
                <a:srgbClr val="5172b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95680" y="6553080"/>
            <a:ext cx="464832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04000" y="659700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小塚ゴシック Std M"/>
                <a:ea typeface="小塚ゴシック Std M"/>
              </a:rPr>
              <a:t>blanco Frame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743200" y="914400"/>
            <a:ext cx="640080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0"/>
            <a:ext cx="0" cy="9144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52480" y="2205000"/>
            <a:ext cx="5791320" cy="1604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  <a:effectLst>
            <a:outerShdw dist="340830" dir="1592279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24680" y="3733920"/>
            <a:ext cx="0" cy="4572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4038480"/>
            <a:ext cx="533160" cy="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2192400"/>
            <a:ext cx="47246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848720" y="3352680"/>
            <a:ext cx="0" cy="76212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1963800"/>
            <a:ext cx="0" cy="4572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38880" y="3962520"/>
            <a:ext cx="8384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丸ｺﾞｼｯｸM-PRO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lvl="2" marL="914400" algn="ctr">
              <a:spcBef>
                <a:spcPts val="400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3" marL="13716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4" marL="18288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2351160"/>
            <a:ext cx="5486400" cy="14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G丸ｺﾞｼｯｸM-PRO"/>
              </a:rPr>
              <a:t>オープンソース下流開発フレームワーク </a:t>
            </a:r>
            <a:br>
              <a:rPr sz="2000"/>
            </a:br>
            <a:r>
              <a:rPr b="0" lang="en-GB" sz="2600" spc="-1" strike="noStrike">
                <a:solidFill>
                  <a:srgbClr val="000000"/>
                </a:solidFill>
                <a:latin typeface="HG丸ｺﾞｼｯｸM-PRO"/>
              </a:rPr>
              <a:t>「</a:t>
            </a:r>
            <a:r>
              <a:rPr b="0" lang="en-GB" sz="2600" spc="-1" strike="noStrike">
                <a:solidFill>
                  <a:srgbClr val="000000"/>
                </a:solidFill>
                <a:latin typeface="HG丸ｺﾞｼｯｸM-PRO"/>
              </a:rPr>
              <a:t>blanco Framework</a:t>
            </a:r>
            <a:r>
              <a:rPr b="0" lang="en-GB" sz="2600" spc="-1" strike="noStrike">
                <a:solidFill>
                  <a:srgbClr val="000000"/>
                </a:solidFill>
                <a:latin typeface="HG丸ｺﾞｼｯｸM-PRO"/>
              </a:rPr>
              <a:t>」</a:t>
            </a:r>
            <a:br>
              <a:rPr sz="2600"/>
            </a:b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の最新動向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ＭＳ Ｐゴシック"/>
              </a:rPr>
              <a:t>OSC2007 Tokyo/Spring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版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84280" y="4400640"/>
            <a:ext cx="6400800" cy="134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200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7.03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.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17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いがぴょん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(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伊賀 敏樹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)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blanco Framework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コミッタ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105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基本パターン 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ファイル入出力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ファイル定義書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(CSV)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9320" y="1228680"/>
            <a:ext cx="9045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45440" cy="36673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blancoCsv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プラグイン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33" name=""/>
          <p:cNvSpPr/>
          <p:nvPr/>
        </p:nvSpPr>
        <p:spPr>
          <a:xfrm>
            <a:off x="2482920" y="4078440"/>
            <a:ext cx="136980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52720" y="4108320"/>
            <a:ext cx="46069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48360" cy="53355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ファイル入出力 ソースコード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37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48720" cy="5580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ファイル入出力ソースコード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丸ｺﾞｼｯｸM-PRO"/>
              </a:rPr>
              <a:t>全体的な特徴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ドキュメント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定義書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中心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ドキュメントに書いたとおりのプログラムが作成できる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ドキュメントを変更したら、プログラムが自動的に変更される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ルーチンワーク的なコーディングを自動化できる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実行時ライブラリ不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編集不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基本パターン 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文字列変換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17680" y="1108080"/>
            <a:ext cx="8375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StringConverter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48" name=""/>
          <p:cNvSpPr/>
          <p:nvPr/>
        </p:nvSpPr>
        <p:spPr>
          <a:xfrm>
            <a:off x="3851280" y="324468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84360" y="1371600"/>
            <a:ext cx="8135640" cy="47214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050920" y="364644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68360" y="1022400"/>
            <a:ext cx="8280360" cy="53593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30312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丸ｺﾞｼｯｸM-PRO"/>
              </a:rPr>
              <a:t>発表者自己紹介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489800" cy="507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D1FF8-0027-4651-82B3-211EA098300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740640" cy="55785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C#.NET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932040" y="1058760"/>
            <a:ext cx="7385040" cy="52498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JavaScript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9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Scrip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VB.NET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281800" cy="49388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VB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417080" cy="528768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PHP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65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PH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丸ｺﾞｼｯｸM-PRO"/>
              </a:rPr>
              <a:t>多言語対応による特徴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Java, C#.NET, JavaScript, VB.NET, PHP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といった異なるプログラミング言語を 横断的に対応できる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基本パターン 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データベース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blanco Framework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の起源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SQL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55069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フラッグシップ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blancoDb 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プラグイン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32720" cy="56246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780000" y="5373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2436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R/O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マッピング用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95280" y="1025640"/>
            <a:ext cx="8424720" cy="5283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R/O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マッピング用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C#.NET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204920" y="971640"/>
            <a:ext cx="6751800" cy="56196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とは？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25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オープンソースのソースコード自動生成型フレームワーク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ライセンス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ＭＳ Ｐゴシック"/>
              </a:rPr>
              <a:t>GNU LGPL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ＭＳ Ｐゴシック"/>
              </a:rPr>
              <a:t>Excel(*.xls)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ファイル形式の様式を中心とした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ソースコード自動生成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ＭＳ Ｐゴシック"/>
              </a:rPr>
              <a:t>Eclipse/Apache Ant (Java)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上で動作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数十人月から数千人月規模のプロジェクトで適用実績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25377-38F6-4B9C-86F8-F36C28E35FA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835280" y="961920"/>
            <a:ext cx="5689440" cy="549144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R/O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マッピング用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PHP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85" name=""/>
          <p:cNvSpPr/>
          <p:nvPr/>
        </p:nvSpPr>
        <p:spPr>
          <a:xfrm>
            <a:off x="2771640" y="3483000"/>
            <a:ext cx="4608720" cy="20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PH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PDO</a:t>
            </a:r>
            <a:r>
              <a:rPr b="1" lang="ja-JP" sz="3200" spc="-1" strike="noStrike">
                <a:solidFill>
                  <a:srgbClr val="ff0000"/>
                </a:solidFill>
                <a:latin typeface="Times New Roman"/>
              </a:rPr>
              <a:t>ベース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R/O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マッピングの特徴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高速なデータベースアクセス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ストアドプロシージャ対応あり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除く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PHP)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実行時ライブラリ不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編集不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必要なソースコードを全て自動生成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省メモリ 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/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大量データ件数の処理が可能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カーソルのスクロール方向が指定可能 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(Java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のみ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デッドロック・クエリタイムアウトのハンドリング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その他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JExcelApi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への取り組み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*.xls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ファイル読み込み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JExcelApi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9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ＭＳ Ｐゴシック"/>
              </a:rPr>
              <a:t>JExcelApi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日本語化パッチに取り組んでいます。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メーリングリストも運用しています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86753-6FFD-44B7-A6DB-0AFED10C032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SQL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整形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67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※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自動生成とは ほとんど関係ありません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SQL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整形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前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28600" y="1947960"/>
          <a:ext cx="86868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47960"/>
                    <a:ext cx="86868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685800" y="5410080"/>
            <a:ext cx="8153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メニューから整形を実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SQL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整形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後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200240" y="1676520"/>
          <a:ext cx="67453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676520"/>
                    <a:ext cx="67453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609480" y="3878280"/>
            <a:ext cx="8153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ﾀﾞｳﾝﾛｰﾄﾞ最多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1280" y="5797440"/>
            <a:ext cx="815328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0000"/>
                </a:solidFill>
                <a:latin typeface="Times New Roman"/>
              </a:rPr>
              <a:t>ライブラリ版もありま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057400" y="2520360"/>
            <a:ext cx="548640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OSC2006 Tokyo/Fall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以降の変化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皆様から頂いた ご意見をもとに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新たに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PHP, VB.NET 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自動生成に対応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2006.11.21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CharacterGroup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Message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StringConverter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StringGroup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※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OSC2006 Tokyo/Fall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懇親会などで お寄せ頂いた ご意見をきっかけに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DbPhp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 (VB.NET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は未対応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の特長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076960" cy="465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低コスト </a:t>
            </a:r>
            <a:r>
              <a:rPr b="0" lang="en-GB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/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容易性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GNU LGP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単純な構造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導入が簡単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シンプルな操作性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39480" indent="-3394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複数言語対応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Java / C#.NET / JavaScript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/ </a:t>
            </a:r>
            <a:r>
              <a:rPr b="1" lang="en-GB" sz="20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PHP / VB.NET</a:t>
            </a:r>
            <a:r>
              <a:rPr b="0" lang="en-GB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に対応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39480" indent="-3394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導入の柔軟性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表計算ソフトで記入するだけ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実行時ライブラリ不要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部分的導入も可能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他のフレームワークとも併用可能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26B87-E30F-4FB9-952A-17BFBF8B67A7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5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PHP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版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R/O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マッピング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blancoDbPhp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提供開始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2006.12.29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PHP 5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以降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PDO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ベースのデータベース入出力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SQL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インジェクションの脅威を回避・予防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残念ながら私たちは実プロジェクト導入実績を知りません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→試用してみようというチャレンジャー募集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JExcelApi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への取り組み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2006.11.01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JExcelApi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メーリングリスト立ち上げ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JExcelApi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日本語化パッチの提供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blancoDbDotNet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ODP.NET (Oracle)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対応に取り組み中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blanco Framework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に取り組んだなかで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定義書 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(*.xls)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と それに対応するソースコードとがマッピングできれば、自動生成は実現可能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自動生成するプログラミング言語の差異は さほど重要ではない。むしろ雛形ソースコード作成の難易度が高い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プロジェクトによって ある程度のカスタマイズは必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700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HG丸ｺﾞｼｯｸM-PRO"/>
              </a:rPr>
              <a:t>自動生成されたソースコードは変更しない！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ジェネレーションギャップ デザインパターン の採用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拡張が必要な場合は「クラスの継承」をおこなう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700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自動生成コストは意外に高い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Excel(*.xls) </a:t>
            </a: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XML </a:t>
            </a: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変換が </a:t>
            </a: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CPU</a:t>
            </a: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コスト高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ソースコード自動生成コストを考慮したモジュール分割設計が必要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終わり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丸ｺﾞｼｯｸM-PRO"/>
              </a:rPr>
              <a:t>適用工程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基本的に設計・製造工程を対象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403280" y="2421000"/>
            <a:ext cx="1295280" cy="765000"/>
            <a:chOff x="1403280" y="2421000"/>
            <a:chExt cx="1295280" cy="765000"/>
          </a:xfrm>
        </p:grpSpPr>
        <p:sp>
          <p:nvSpPr>
            <p:cNvPr id="115" name=""/>
            <p:cNvSpPr/>
            <p:nvPr/>
          </p:nvSpPr>
          <p:spPr>
            <a:xfrm>
              <a:off x="1403280" y="2421000"/>
              <a:ext cx="1295280" cy="7650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54480" y="2659680"/>
              <a:ext cx="90144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Times New Roman"/>
                  <a:ea typeface="HG丸ｺﾞｼｯｸM-PRO"/>
                </a:rPr>
                <a:t>要件定義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422440" y="2276640"/>
            <a:ext cx="2003040" cy="1095120"/>
            <a:chOff x="2422440" y="2276640"/>
            <a:chExt cx="2003040" cy="1095120"/>
          </a:xfrm>
        </p:grpSpPr>
        <p:sp>
          <p:nvSpPr>
            <p:cNvPr id="118" name=""/>
            <p:cNvSpPr/>
            <p:nvPr/>
          </p:nvSpPr>
          <p:spPr>
            <a:xfrm>
              <a:off x="2422440" y="2276640"/>
              <a:ext cx="2003040" cy="1095120"/>
            </a:xfrm>
            <a:custGeom>
              <a:avLst/>
              <a:gdLst>
                <a:gd name="textAreaLeft" fmla="*/ 0 w 2003040"/>
                <a:gd name="textAreaRight" fmla="*/ 2003040 w 2003040"/>
                <a:gd name="textAreaTop" fmla="*/ 0 h 1095120"/>
                <a:gd name="textAreaBottom" fmla="*/ 1095480 h 109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21600" y="2432880"/>
              <a:ext cx="1520280" cy="801720"/>
            </a:xfrm>
            <a:custGeom>
              <a:avLst/>
              <a:gdLst>
                <a:gd name="textAreaLeft" fmla="*/ 0 w 1520280"/>
                <a:gd name="textAreaRight" fmla="*/ 1520640 w 152028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37560" y="2698920"/>
              <a:ext cx="5788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Times New Roman"/>
                  <a:ea typeface="HG丸ｺﾞｼｯｸM-PRO"/>
                </a:rPr>
                <a:t>設計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780000" y="2276640"/>
            <a:ext cx="1902960" cy="1095120"/>
            <a:chOff x="3780000" y="2276640"/>
            <a:chExt cx="1902960" cy="1095120"/>
          </a:xfrm>
        </p:grpSpPr>
        <p:sp>
          <p:nvSpPr>
            <p:cNvPr id="122" name=""/>
            <p:cNvSpPr/>
            <p:nvPr/>
          </p:nvSpPr>
          <p:spPr>
            <a:xfrm>
              <a:off x="3780000" y="2276640"/>
              <a:ext cx="1902960" cy="1095120"/>
            </a:xfrm>
            <a:custGeom>
              <a:avLst/>
              <a:gdLst>
                <a:gd name="textAreaLeft" fmla="*/ 0 w 1902960"/>
                <a:gd name="textAreaRight" fmla="*/ 1903320 w 1902960"/>
                <a:gd name="textAreaTop" fmla="*/ 0 h 1095120"/>
                <a:gd name="textAreaBottom" fmla="*/ 1095480 h 109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01840" y="2432880"/>
              <a:ext cx="1419840" cy="801720"/>
            </a:xfrm>
            <a:custGeom>
              <a:avLst/>
              <a:gdLst>
                <a:gd name="textAreaLeft" fmla="*/ 0 w 1419840"/>
                <a:gd name="textAreaRight" fmla="*/ 1420200 w 141984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49760" y="2698920"/>
              <a:ext cx="54792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Times New Roman"/>
                  <a:ea typeface="HG丸ｺﾞｼｯｸM-PRO"/>
                </a:rPr>
                <a:t>製造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521320" y="2421000"/>
            <a:ext cx="1425240" cy="765000"/>
            <a:chOff x="5521320" y="2421000"/>
            <a:chExt cx="1425240" cy="765000"/>
          </a:xfrm>
        </p:grpSpPr>
        <p:sp>
          <p:nvSpPr>
            <p:cNvPr id="126" name=""/>
            <p:cNvSpPr/>
            <p:nvPr/>
          </p:nvSpPr>
          <p:spPr>
            <a:xfrm>
              <a:off x="5521320" y="2421000"/>
              <a:ext cx="1425240" cy="765000"/>
            </a:xfrm>
            <a:custGeom>
              <a:avLst/>
              <a:gdLst>
                <a:gd name="textAreaLeft" fmla="*/ 0 w 1425240"/>
                <a:gd name="textAreaRight" fmla="*/ 1425240 w 142524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88240" y="2659680"/>
              <a:ext cx="7509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Times New Roman"/>
                  <a:ea typeface="HG丸ｺﾞｼｯｸM-PRO"/>
                </a:rPr>
                <a:t>テスト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3960720" y="3373560"/>
            <a:ext cx="1690920" cy="976320"/>
          </a:xfrm>
          <a:custGeom>
            <a:avLst/>
            <a:gdLst>
              <a:gd name="textAreaLeft" fmla="*/ 0 w 1690920"/>
              <a:gd name="textAreaRight" fmla="*/ 1691280 w 16909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84360" y="3373560"/>
            <a:ext cx="1943280" cy="992160"/>
          </a:xfrm>
          <a:custGeom>
            <a:avLst/>
            <a:gdLst>
              <a:gd name="textAreaLeft" fmla="*/ 0 w 1943280"/>
              <a:gd name="textAreaRight" fmla="*/ 1943640 w 194328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14560" y="3732120"/>
            <a:ext cx="11527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400" spc="-1" strike="noStrike">
                <a:solidFill>
                  <a:srgbClr val="ff3399"/>
                </a:solidFill>
                <a:latin typeface="Times New Roman"/>
                <a:ea typeface="HG丸ｺﾞｼｯｸM-PRO"/>
              </a:rPr>
              <a:t>定義書記入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92400" y="3710160"/>
            <a:ext cx="1300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400" spc="-1" strike="noStrike">
                <a:solidFill>
                  <a:srgbClr val="ff3399"/>
                </a:solidFill>
                <a:latin typeface="Times New Roman"/>
                <a:ea typeface="HG丸ｺﾞｼｯｸM-PRO"/>
              </a:rPr>
              <a:t>ソースコード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400" spc="-1" strike="noStrike">
                <a:solidFill>
                  <a:srgbClr val="ff3399"/>
                </a:solidFill>
                <a:latin typeface="Times New Roman"/>
                <a:ea typeface="HG丸ｺﾞｼｯｸM-PRO"/>
              </a:rPr>
              <a:t>自動生成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導入のメリット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413000"/>
            <a:ext cx="8077320" cy="480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生産性向上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単純作業を自動化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工数を削減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可読性向上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均質なソースコードを自動生成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保守性向上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定義書の変更が即座にソースコードに反映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仕様と実装が常に一致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品質向上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自動化・均質化・変更の確実な実施などの結果、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品質が向上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41F4F-0892-4A84-BAEA-952B0A4A6DA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導入のデメリット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9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ソースコード規模増加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ソースコード自動生成の時間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AD707-65C5-493E-9BA5-24E71692D1E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主要プロダク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80000" y="3357720"/>
            <a:ext cx="2339640" cy="122364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24000" y="765000"/>
            <a:ext cx="3360600" cy="3132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43400" y="787320"/>
            <a:ext cx="2820960" cy="28209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76360" y="4005360"/>
            <a:ext cx="2844720" cy="262728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80000" y="3968640"/>
            <a:ext cx="2598840" cy="259884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172360" y="2673360"/>
            <a:ext cx="609840" cy="71928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DB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44" idx="3"/>
            <a:endCxn id="142" idx="2"/>
          </p:cNvCxnSpPr>
          <p:nvPr/>
        </p:nvCxnSpPr>
        <p:spPr>
          <a:xfrm>
            <a:off x="7162920" y="3019320"/>
            <a:ext cx="1010160" cy="1512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sp>
        <p:nvSpPr>
          <p:cNvPr id="145" name=""/>
          <p:cNvSpPr/>
          <p:nvPr/>
        </p:nvSpPr>
        <p:spPr>
          <a:xfrm>
            <a:off x="6370560" y="4184640"/>
            <a:ext cx="1009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文字列関連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4186080"/>
            <a:ext cx="971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電文送受信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32000" y="90972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ファイル入出力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99040" y="966960"/>
            <a:ext cx="140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データベース関連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5446800"/>
            <a:ext cx="719280" cy="71892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Cli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9" idx="3"/>
            <a:endCxn id="151" idx="1"/>
          </p:cNvCxnSpPr>
          <p:nvPr/>
        </p:nvCxnSpPr>
        <p:spPr>
          <a:xfrm flipV="1">
            <a:off x="1258560" y="5803200"/>
            <a:ext cx="757800" cy="39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sp>
        <p:nvSpPr>
          <p:cNvPr id="152" name=""/>
          <p:cNvSpPr/>
          <p:nvPr/>
        </p:nvSpPr>
        <p:spPr>
          <a:xfrm>
            <a:off x="3924360" y="3825720"/>
            <a:ext cx="20876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lanco Frame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43280" y="4616280"/>
            <a:ext cx="757080" cy="45720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処理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68720" y="5659560"/>
            <a:ext cx="649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XML)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24360" y="5372280"/>
            <a:ext cx="649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WSD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XML)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16000" y="5551560"/>
            <a:ext cx="6494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Web Servi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Prox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16000" y="5048280"/>
            <a:ext cx="649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クラス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95640" y="1379520"/>
            <a:ext cx="757080" cy="42228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可変長）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32000" y="2171880"/>
            <a:ext cx="720720" cy="4219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固定長）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95640" y="3000240"/>
            <a:ext cx="792000" cy="3859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リソースバンドル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71640" y="1452600"/>
            <a:ext cx="792360" cy="420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ースコード</a:t>
            </a: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)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71640" y="2244600"/>
            <a:ext cx="792360" cy="420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71640" y="3000240"/>
            <a:ext cx="838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リソースバンドル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1341360"/>
            <a:ext cx="647640" cy="64944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可変長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2133720"/>
            <a:ext cx="647640" cy="64908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固定長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3070080"/>
            <a:ext cx="770040" cy="77004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パティ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96120" y="2084400"/>
            <a:ext cx="685800" cy="45720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SQL</a:t>
            </a: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59400" y="2803680"/>
            <a:ext cx="80352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DB</a:t>
            </a: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63" idx="3"/>
            <a:endCxn id="160" idx="1"/>
          </p:cNvCxnSpPr>
          <p:nvPr/>
        </p:nvCxnSpPr>
        <p:spPr>
          <a:xfrm flipV="1">
            <a:off x="1115640" y="1662840"/>
            <a:ext cx="756360" cy="39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8" name=""/>
          <p:cNvCxnSpPr>
            <a:stCxn id="165" idx="3"/>
            <a:endCxn id="162" idx="1"/>
          </p:cNvCxnSpPr>
          <p:nvPr/>
        </p:nvCxnSpPr>
        <p:spPr>
          <a:xfrm flipV="1">
            <a:off x="1238040" y="3228120"/>
            <a:ext cx="633960" cy="22788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69" name=""/>
          <p:cNvCxnSpPr>
            <a:stCxn id="164" idx="3"/>
            <a:endCxn id="161" idx="1"/>
          </p:cNvCxnSpPr>
          <p:nvPr/>
        </p:nvCxnSpPr>
        <p:spPr>
          <a:xfrm flipV="1">
            <a:off x="1115640" y="2455200"/>
            <a:ext cx="756360" cy="39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0" name=""/>
          <p:cNvCxnSpPr>
            <a:stCxn id="157" idx="1"/>
            <a:endCxn id="160" idx="3"/>
          </p:cNvCxnSpPr>
          <p:nvPr/>
        </p:nvCxnSpPr>
        <p:spPr>
          <a:xfrm flipH="1">
            <a:off x="2663280" y="1590840"/>
            <a:ext cx="432360" cy="734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1" name=""/>
          <p:cNvCxnSpPr>
            <a:stCxn id="158" idx="1"/>
            <a:endCxn id="161" idx="3"/>
          </p:cNvCxnSpPr>
          <p:nvPr/>
        </p:nvCxnSpPr>
        <p:spPr>
          <a:xfrm flipH="1">
            <a:off x="2663640" y="2382480"/>
            <a:ext cx="468720" cy="738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2" name=""/>
          <p:cNvCxnSpPr>
            <a:stCxn id="159" idx="1"/>
            <a:endCxn id="162" idx="3"/>
          </p:cNvCxnSpPr>
          <p:nvPr/>
        </p:nvCxnSpPr>
        <p:spPr>
          <a:xfrm flipH="1">
            <a:off x="2709360" y="3193560"/>
            <a:ext cx="386640" cy="356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3" name=""/>
          <p:cNvCxnSpPr>
            <a:stCxn id="153" idx="2"/>
            <a:endCxn id="156" idx="3"/>
          </p:cNvCxnSpPr>
          <p:nvPr/>
        </p:nvCxnSpPr>
        <p:spPr>
          <a:xfrm flipH="1">
            <a:off x="2665080" y="5047920"/>
            <a:ext cx="558000" cy="1818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4" name=""/>
          <p:cNvCxnSpPr>
            <a:stCxn id="153" idx="2"/>
            <a:endCxn id="151" idx="3"/>
          </p:cNvCxnSpPr>
          <p:nvPr/>
        </p:nvCxnSpPr>
        <p:spPr>
          <a:xfrm flipH="1">
            <a:off x="2665080" y="5047920"/>
            <a:ext cx="558000" cy="7563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5" name=""/>
          <p:cNvCxnSpPr>
            <a:stCxn id="153" idx="2"/>
            <a:endCxn id="155" idx="0"/>
          </p:cNvCxnSpPr>
          <p:nvPr/>
        </p:nvCxnSpPr>
        <p:spPr>
          <a:xfrm>
            <a:off x="3222360" y="5048280"/>
            <a:ext cx="127800" cy="32472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6" name=""/>
          <p:cNvCxnSpPr>
            <a:stCxn id="166" idx="2"/>
            <a:endCxn id="144" idx="0"/>
          </p:cNvCxnSpPr>
          <p:nvPr/>
        </p:nvCxnSpPr>
        <p:spPr>
          <a:xfrm>
            <a:off x="6738840" y="2515680"/>
            <a:ext cx="23040" cy="2883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7" name=""/>
          <p:cNvCxnSpPr>
            <a:endCxn id="165" idx="2"/>
          </p:cNvCxnSpPr>
          <p:nvPr/>
        </p:nvCxnSpPr>
        <p:spPr>
          <a:xfrm flipV="1" rot="10800000">
            <a:off x="853200" y="3212640"/>
            <a:ext cx="2233080" cy="627840"/>
          </a:xfrm>
          <a:prstGeom prst="curvedConnector5">
            <a:avLst>
              <a:gd name="adj1" fmla="val 15285"/>
              <a:gd name="adj2" fmla="val 68100"/>
              <a:gd name="adj3" fmla="val 15285"/>
            </a:avLst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sp>
        <p:nvSpPr>
          <p:cNvPr id="178" name=""/>
          <p:cNvSpPr/>
          <p:nvPr/>
        </p:nvSpPr>
        <p:spPr>
          <a:xfrm>
            <a:off x="1798560" y="1233360"/>
            <a:ext cx="68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entury Gothic"/>
                <a:ea typeface="MS UI Gothic"/>
              </a:rPr>
              <a:t>blancoCsv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98560" y="1236600"/>
            <a:ext cx="2197080" cy="684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560" y="2028960"/>
            <a:ext cx="90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entury Gothic"/>
              </a:rPr>
              <a:t>blancoFixedLength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98560" y="2028960"/>
            <a:ext cx="2197080" cy="68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98560" y="2820960"/>
            <a:ext cx="2197080" cy="684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6560" y="2855880"/>
            <a:ext cx="1044720" cy="1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entury Gothic"/>
              </a:rPr>
              <a:t>blancoResourceBundl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0920" y="4543560"/>
            <a:ext cx="6843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SO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71640" y="4471920"/>
            <a:ext cx="2052720" cy="1728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80120" y="1795320"/>
            <a:ext cx="68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D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35760" y="1758960"/>
            <a:ext cx="1415880" cy="1620720"/>
          </a:xfrm>
          <a:custGeom>
            <a:avLst/>
            <a:gdLst>
              <a:gd name="textAreaLeft" fmla="*/ 69120 w 1415880"/>
              <a:gd name="textAreaRight" fmla="*/ 1346760 w 1415880"/>
              <a:gd name="textAreaTop" fmla="*/ 69120 h 1620720"/>
              <a:gd name="textAreaBottom" fmla="*/ 1551600 h 1620720"/>
            </a:gdLst>
            <a:ahLst/>
            <a:rect l="textAreaLeft" t="textAreaTop" r="textAreaRight" b="textAreaBottom"/>
            <a:pathLst>
              <a:path w="21600" h="24724">
                <a:moveTo>
                  <a:pt x="3600" y="0"/>
                </a:moveTo>
                <a:arcTo wR="3600" hR="3600" stAng="16200000" swAng="-5400000"/>
                <a:lnTo>
                  <a:pt x="0" y="21124"/>
                </a:lnTo>
                <a:arcTo wR="3600" hR="3600" stAng="10800000" swAng="-5400000"/>
                <a:lnTo>
                  <a:pt x="18000" y="247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43760" y="1363680"/>
            <a:ext cx="1152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SqlEditorPlugi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99040" y="1327320"/>
            <a:ext cx="1476360" cy="323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35640" y="4581360"/>
            <a:ext cx="11145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Messa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99280" y="4545000"/>
            <a:ext cx="115092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99280" y="4941720"/>
            <a:ext cx="1152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CharacterGrou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83280" y="4903920"/>
            <a:ext cx="158292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7280" y="5661000"/>
            <a:ext cx="104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StringGrou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62560" y="5624640"/>
            <a:ext cx="129564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72360" y="5300640"/>
            <a:ext cx="104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StringConver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19640" y="5264280"/>
            <a:ext cx="154800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70560" y="6021360"/>
            <a:ext cx="111780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Constan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34200" y="5985000"/>
            <a:ext cx="118908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動作原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486560" y="368136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M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86560" y="285264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ース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コード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6360" y="1773360"/>
            <a:ext cx="169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59280" y="1628640"/>
            <a:ext cx="3241440" cy="3024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50920" y="3139920"/>
            <a:ext cx="935280" cy="576360"/>
          </a:xfrm>
          <a:prstGeom prst="rightArrow">
            <a:avLst>
              <a:gd name="adj1" fmla="val 50000"/>
              <a:gd name="adj2" fmla="val 40568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25800" y="328464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読み込み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32000" y="2421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08720" y="314172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81800" y="328464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書き出し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64360" y="4905360"/>
            <a:ext cx="251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すぐに使えるソースコード</a:t>
            </a:r>
            <a:br>
              <a:rPr sz="1600"/>
            </a:b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実行時ライブラリ不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40000" y="25290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記入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16360" y="4941720"/>
            <a:ext cx="2195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容易なインストール</a:t>
            </a:r>
            <a:br>
              <a:rPr sz="1600"/>
            </a:b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および実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80360" y="1160640"/>
            <a:ext cx="1150920" cy="1079280"/>
          </a:xfrm>
          <a:prstGeom prst="wedgeRectCallout">
            <a:avLst>
              <a:gd name="adj1" fmla="val -18138"/>
              <a:gd name="adj2" fmla="val 87648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C#.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Scrip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VB.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PH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20720" y="497664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表計算ソフトを使って</a:t>
            </a:r>
            <a:br>
              <a:rPr sz="1600"/>
            </a:b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記入するだけ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5640" y="1951200"/>
            <a:ext cx="129528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Excel / OpenOff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64000" y="3860640"/>
            <a:ext cx="2232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64000" y="256392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08360" y="400356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Java</a:t>
            </a: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実行環境 </a:t>
            </a: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1.4.2</a:t>
            </a: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以降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08360" y="270684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JExcelApi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64000" y="191628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08360" y="20588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blanco</a:t>
            </a: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＊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7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1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19640" y="3354480"/>
            <a:ext cx="107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Apache An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59280" y="3354480"/>
            <a:ext cx="10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Eclips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5640" y="3068640"/>
            <a:ext cx="1152360" cy="7207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</a:t>
            </a: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LS</a:t>
            </a: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）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db</cp:lastModifiedBy>
  <dcterms:modified xsi:type="dcterms:W3CDTF">2007-03-16T06:42:30Z</dcterms:modified>
  <cp:revision>487</cp:revision>
  <dc:subject/>
  <dc:title>blanco Framework ご紹介</dc:title>
</cp:coreProperties>
</file>