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BBDAD-2621-4130-9193-4CA3CC9FA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8F0E-E6B2-497C-B91F-5D3B8C7DB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68768-C92D-484B-8E2C-BE1E10321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12CE-A463-48DA-98AC-1CDC3236D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E468-F6C5-488A-827A-B3954332C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3D2CC-6780-4993-BA7B-421BA353C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649A-F675-4BA6-9CF4-A55694BA8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DC1A1-12C0-4E19-B6DE-A5C2F9785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FF3B-1A6B-4E66-8576-32686DE5F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8A322-9759-4879-8991-1ABB4F182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E945-4BCC-4B3E-B944-39D848059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15F7-2B53-45BF-A38C-721021640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DCC12FCF-0861-45D7-88D0-23EEF9EB52BD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ＭＳ Ｐゴシック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への取り組み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山本 耕司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自動生成アーキテクチャ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6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16360" y="4941720"/>
            <a:ext cx="219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605C-111A-4CA5-B5B0-07CB49B92C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遭遇した問題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上で正常に動作し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セルの値が読め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特定の文字が正常に処理でき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」が「ﾗ」に文字化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0DBD-838C-46CD-A8A5-9E7900C73D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上で正常に動作しない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un JDK 1.4.2_1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までは問題なし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上ではセルの値が読め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中間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XML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ファイルの中身が空っぽ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ソースコードが生成され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UnicodeLittle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内部表現が変わったのが原因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O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なし→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O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あり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UnicodeLittle” → “UTF-16LE”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B9E6-FC62-42EB-835C-0F1C7BC79E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特定の文字が正常に処理できない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特定の文字が文字化け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」が「ﾗ」に文字化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常に文字化けが発生するわけで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\u0000-\u00ff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文字だけからなるセルで発生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ASCII (Compressed) String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WorkbookSetting#getEncoding()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のエンコーディングで復元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指定がなければデフォルトエンコーディング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WorkbookSetting#setEncoding()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”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ISO8859_1”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を指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自体の修正は必要なし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シート名の文字化けは別途対応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new String(bytes)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→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new String(bytes, "ISO8859_1")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B909-A150-4B83-A495-5F449C1567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JExcelApi blanco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パッチ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Common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同梱して配布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ourceForge.jp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てパッチ提供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http://cvs.sourceforge.jp/cgi-bin/viewcvs.cgi/blancofw/blancoMisc/doc/jexcelapi/#dirlis</a:t>
            </a:r>
            <a:r>
              <a:rPr b="0" lang="ja-JP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最新のパッチは、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jxl-2.6.2blanco4.patch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89A53-BB88-4D25-9518-657C50A368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lanco JExcelApi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メーリングリスト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fw-jexcelapi M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http://lists.sourceforge.jp/mailman/listinfo/blancofw-jexcelapi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 ML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中、ユーザ数最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ほとんど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43A6B-7D8F-40B7-9E52-3AEE02518D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ExcelApi ML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よろしく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ＭＳ Ｐゴシック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ＭＳ Ｐゴシック"/>
              </a:rPr>
              <a:t>も ・・・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ndb</cp:lastModifiedBy>
  <dcterms:modified xsi:type="dcterms:W3CDTF">2007-03-16T05:48:00Z</dcterms:modified>
  <cp:revision>217</cp:revision>
  <dc:subject/>
  <dc:title>blanco Framework　システム構成</dc:title>
</cp:coreProperties>
</file>