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FFD4-A0EC-4937-96B9-1905B57D1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D7CB-B517-47F9-9D80-FC51697F5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7F94-730E-4601-A64C-4D7E98A31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C30C-E943-49ED-AD78-2CE5FE592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35E6-43A7-4D2D-9435-07B746301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CA4D-9795-46F1-8DD3-0DB6C498D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5AFA-A75D-4C58-B399-E0190B609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BB3D-156F-40C5-8F94-55FF992BD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5087-1CAE-4742-AA6B-C46B390A7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6038-9A16-4532-9E18-45FF8F05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301B-A24D-4E0C-B320-6D8DBB02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E847-E212-48C4-B39E-ED2F0F59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177AC-7212-4711-AF4C-D75FEF06F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486560" y="3681360"/>
            <a:ext cx="64944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XM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486560" y="2852640"/>
            <a:ext cx="64944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ソー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コー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76360" y="1773360"/>
            <a:ext cx="169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1628640"/>
            <a:ext cx="3241440" cy="3024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50920" y="3139920"/>
            <a:ext cx="935280" cy="576360"/>
          </a:xfrm>
          <a:prstGeom prst="rightArrow">
            <a:avLst>
              <a:gd name="adj1" fmla="val 50000"/>
              <a:gd name="adj2" fmla="val 40568"/>
            </a:avLst>
          </a:prstGeom>
          <a:solidFill>
            <a:srgbClr val="c0c0c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25800" y="3284640"/>
            <a:ext cx="71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読み込み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32000" y="2421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408720" y="3141720"/>
            <a:ext cx="934920" cy="576360"/>
          </a:xfrm>
          <a:prstGeom prst="rightArrow">
            <a:avLst>
              <a:gd name="adj1" fmla="val 50000"/>
              <a:gd name="adj2" fmla="val 40553"/>
            </a:avLst>
          </a:prstGeom>
          <a:solidFill>
            <a:srgbClr val="c0c0c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81800" y="3284640"/>
            <a:ext cx="7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書き出し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64360" y="4905360"/>
            <a:ext cx="2519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・すぐに使えるソースコード</a:t>
            </a:r>
            <a:br>
              <a:rPr sz="1400"/>
            </a:b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・実行時ライブラリ不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40000" y="252900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記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16360" y="4941720"/>
            <a:ext cx="1800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容易なインストール</a:t>
            </a:r>
            <a:br>
              <a:rPr sz="1400"/>
            </a:b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および実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380360" y="1160640"/>
            <a:ext cx="1150920" cy="1079280"/>
          </a:xfrm>
          <a:prstGeom prst="wedgeRectCallout">
            <a:avLst>
              <a:gd name="adj1" fmla="val -18138"/>
              <a:gd name="adj2" fmla="val 87648"/>
            </a:avLst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C#.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JavaScri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VB.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PH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0720" y="4976640"/>
            <a:ext cx="2087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表計算ソフトを使って</a:t>
            </a:r>
            <a:br>
              <a:rPr sz="1400"/>
            </a:b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記入するだ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55640" y="498600"/>
            <a:ext cx="54720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 Black"/>
                <a:ea typeface="TBP丸ｺﾞｼｯｸR"/>
              </a:rPr>
              <a:t>blanco Framework</a:t>
            </a:r>
            <a:r>
              <a:rPr b="0" lang="ja-JP" sz="2800" spc="-1" strike="noStrike">
                <a:solidFill>
                  <a:srgbClr val="000000"/>
                </a:solidFill>
                <a:latin typeface="TBP丸ｺﾞｼｯｸR"/>
                <a:ea typeface="TBP丸ｺﾞｼｯｸR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TBP丸ｺﾞｼｯｸR"/>
                <a:ea typeface="TBP丸ｺﾞｼｯｸR"/>
              </a:rPr>
              <a:t>動作原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12640"/>
            <a:ext cx="179280" cy="3589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55640" y="1951200"/>
            <a:ext cx="129528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entury Gothic"/>
              </a:rPr>
              <a:t>Excel / OpenOff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64000" y="3860640"/>
            <a:ext cx="2232000" cy="50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64000" y="2563920"/>
            <a:ext cx="223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708360" y="400356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Java</a:t>
            </a:r>
            <a:r>
              <a:rPr b="1" lang="zh-CN" sz="1300" spc="-1" strike="noStrike">
                <a:solidFill>
                  <a:srgbClr val="000000"/>
                </a:solidFill>
                <a:latin typeface="Century Gothic"/>
              </a:rPr>
              <a:t>実行環境 </a:t>
            </a: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1.4.2</a:t>
            </a:r>
            <a:r>
              <a:rPr b="1" lang="zh-CN" sz="1300" spc="-1" strike="noStrike">
                <a:solidFill>
                  <a:srgbClr val="000000"/>
                </a:solidFill>
                <a:latin typeface="Century Gothic"/>
              </a:rPr>
              <a:t>以降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708360" y="2706840"/>
            <a:ext cx="19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JExcelAp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64000" y="1916280"/>
            <a:ext cx="223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08360" y="205884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blanco</a:t>
            </a: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＊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74920" y="32115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714920" y="32115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19640" y="3354480"/>
            <a:ext cx="107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Apache A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59280" y="3354480"/>
            <a:ext cx="107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Eclips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3068640"/>
            <a:ext cx="1152360" cy="72072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定義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</a:t>
            </a: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XLS</a:t>
            </a: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9D00-5314-491F-840C-744F096367F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07:32:30Z</dcterms:created>
  <dc:creator/>
  <dc:description/>
  <dc:language>en-US</dc:language>
  <cp:lastModifiedBy>ｎｂｂ</cp:lastModifiedBy>
  <dcterms:modified xsi:type="dcterms:W3CDTF">2007-03-16T02:15:57Z</dcterms:modified>
  <cp:revision>219</cp:revision>
  <dc:subject/>
  <dc:title>blanco Framework　システム構成</dc:title>
</cp:coreProperties>
</file>