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063-813D-4223-81C2-47804D94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6E8-B3B3-408F-BD2E-2AA95F7C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995-EA65-404E-8236-21558305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65F-5BF7-4476-A69B-828E362A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D18-5049-4FDD-A57A-0CD82B0E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44A-4D69-4011-980E-1ED6FBFD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49E-5C44-4F9C-889D-F240E5AA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710-532D-4149-9090-F06070E1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152-0450-41BC-95CB-0A07EB71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6D6-CA07-4FFC-9F5A-23AF445F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CD0-BDB5-4560-87DE-B71A223B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09E-E4ED-4F21-900A-52A3F3B6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F821-9A04-4B3F-8A14-1679F5D9C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98600"/>
            <a:ext cx="7201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メールソリューション </a:t>
            </a: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の提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197000"/>
            <a:ext cx="7704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一般的な業務システム開発においてメール送受信ニーズが出てきてい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ころが、実際に業務システムにメール送受信を組み込むとトラブルが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クライアントの種類・機種によっては文字化けのトラブ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: 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のメールアドレス誤設定による個人情報流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の文面が適切でなかった。ワークフロー機能が入っていれ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送受信にまつわる機能の実装は意外にコスト高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試験目的でプログラムを動かしたら、間違ってメールを誤送信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lancoMail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導入して、メール送受信にまつわる諸問題を解決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308-EAB0-441D-8406-3CF63D4DEA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421000"/>
            <a:ext cx="111600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70560" y="944640"/>
            <a:ext cx="3241800" cy="4176720"/>
          </a:xfrm>
          <a:custGeom>
            <a:avLst/>
            <a:gdLst>
              <a:gd name="textAreaLeft" fmla="*/ 158040 w 3241800"/>
              <a:gd name="textAreaRight" fmla="*/ 3083760 w 3241800"/>
              <a:gd name="textAreaTop" fmla="*/ 158040 h 4176720"/>
              <a:gd name="textAreaBottom" fmla="*/ 4018680 h 4176720"/>
            </a:gdLst>
            <a:ahLst/>
            <a:rect l="textAreaLeft" t="textAreaTop" r="textAreaRight" b="textAreaBottom"/>
            <a:pathLst>
              <a:path w="21600" h="27829">
                <a:moveTo>
                  <a:pt x="3600" y="0"/>
                </a:moveTo>
                <a:arcTo wR="3600" hR="3600" stAng="16200000" swAng="-5400000"/>
                <a:lnTo>
                  <a:pt x="0" y="24229"/>
                </a:lnTo>
                <a:arcTo wR="3600" hR="3600" stAng="10800000" swAng="-5400000"/>
                <a:lnTo>
                  <a:pt x="18000" y="278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4462200" y="23839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35640" y="252900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64000" y="306864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64000" y="321300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5121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を活用したシステム構築が簡単に実現できる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04972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サー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アーキテクチ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75280" y="43290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68136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9640" y="443700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54560" y="37893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avaMa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24192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9640" y="252900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3068640"/>
            <a:ext cx="2195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92720" y="31766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re (AP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2349360"/>
            <a:ext cx="111600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2193840" y="234756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66920" y="24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032280"/>
            <a:ext cx="934920" cy="576000"/>
          </a:xfrm>
          <a:prstGeom prst="rightArrow">
            <a:avLst>
              <a:gd name="adj1" fmla="val 50000"/>
              <a:gd name="adj2" fmla="val 4057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17664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213000"/>
            <a:ext cx="863640" cy="4320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086440"/>
            <a:ext cx="219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ケータイや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PC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など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クライアン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940360" y="1195560"/>
            <a:ext cx="2232000" cy="504720"/>
            <a:chOff x="5940360" y="1195560"/>
            <a:chExt cx="2232000" cy="504720"/>
          </a:xfrm>
        </p:grpSpPr>
        <p:sp>
          <p:nvSpPr>
            <p:cNvPr id="70" name=""/>
            <p:cNvSpPr/>
            <p:nvPr/>
          </p:nvSpPr>
          <p:spPr>
            <a:xfrm>
              <a:off x="5940360" y="1195560"/>
              <a:ext cx="2232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84720" y="1303560"/>
              <a:ext cx="194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000000"/>
                  </a:solidFill>
                  <a:latin typeface="Century Gothic"/>
                </a:rPr>
                <a:t>業務アプリケーショ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975280" y="1808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9640" y="1952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19A-29D8-42C3-BDA3-36B3002155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498600"/>
            <a:ext cx="5940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を支える個別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306864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5440" y="317808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17440" y="4329000"/>
            <a:ext cx="2195640" cy="504720"/>
            <a:chOff x="1117440" y="4329000"/>
            <a:chExt cx="2195640" cy="504720"/>
          </a:xfrm>
        </p:grpSpPr>
        <p:sp>
          <p:nvSpPr>
            <p:cNvPr id="79" name=""/>
            <p:cNvSpPr/>
            <p:nvPr/>
          </p:nvSpPr>
          <p:spPr>
            <a:xfrm>
              <a:off x="1117440" y="4329000"/>
              <a:ext cx="219564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8520" y="4437000"/>
              <a:ext cx="180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Century Gothic"/>
                </a:rPr>
                <a:t>blancoMailCore (API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8108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25440" y="2060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27280" y="4257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単純化するプロダクト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安全で簡単なメール送信／メール受信プログラミング環境を提供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※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 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直接利用したプログラミングの難易度は高い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バッグモードを提供。試験動作時のメール誤送信を防ぐ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7280" y="3033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文面にコマンドを埋め込む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承諾・拒否・選択・短文入力などを実現する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セッションの概念 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セッション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ID) 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付与する機能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27280" y="1844640"/>
            <a:ext cx="5148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ワークフローに関する基本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時間帯を考慮したメール送信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入会・退会といったアドレス管理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送信内容の事前チェック機能。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管理者の承認後に送信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4761000"/>
            <a:ext cx="1800360" cy="325440"/>
          </a:xfrm>
          <a:prstGeom prst="roundRect">
            <a:avLst>
              <a:gd name="adj" fmla="val 16667"/>
            </a:avLst>
          </a:prstGeom>
          <a:solidFill>
            <a:srgbClr val="ffff99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7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9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末リリース予定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632-DD8F-4042-B6A0-C2A7FC3AA3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9-06T04:02:37Z</dcterms:modified>
  <cp:revision>324</cp:revision>
  <dc:subject/>
  <dc:title>blanco Framework　システム構成</dc:title>
</cp:coreProperties>
</file>